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305-3BAA-41CD-B1B0-AA945527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B83-BBF7-4029-B04B-534F91D8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3EB-E00C-493D-A5B8-AB844161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6AE-42C3-4F08-A7CC-58BA4915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3AC-33F0-476F-AC57-7B9CA56B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20B-D991-4C86-B828-D0A610BB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E91-AF47-472F-A9FA-41A1AF20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E71-82B4-4D69-9FA8-2FFB9F42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539-E971-4903-8B00-97BD3B4E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E4C-B045-42B7-A459-108F1498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055-4962-4C92-8002-445672B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572-DF17-4057-8F98-333CA50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5D9-5CDD-48A4-88EA-3FA06A8789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660000"/>
            <a:chOff x="0" y="0"/>
            <a:chExt cx="9144000" cy="6660000"/>
          </a:xfrm>
        </p:grpSpPr>
        <p:pic>
          <p:nvPicPr>
            <p:cNvPr id="42" name="copertina" descr=""/>
            <p:cNvPicPr/>
            <p:nvPr/>
          </p:nvPicPr>
          <p:blipFill>
            <a:blip r:embed="rId1"/>
            <a:stretch/>
          </p:blipFill>
          <p:spPr>
            <a:xfrm>
              <a:off x="561960" y="0"/>
              <a:ext cx="8020080" cy="56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438280" y="4448160"/>
              <a:ext cx="44960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654440"/>
              <a:ext cx="9144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800" spc="-1" strike="noStrike">
                  <a:solidFill>
                    <a:srgbClr val="b2b2b2"/>
                  </a:solidFill>
                  <a:latin typeface="Arial Black"/>
                </a:rPr>
                <a:t>PUBLIC WLAN ACCESS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99"/>
                  </a:solidFill>
                  <a:latin typeface="Arial"/>
                </a:rPr>
                <a:t>Il caso Megabea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5895720"/>
              <a:ext cx="8610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73320" y="6352920"/>
              <a:ext cx="289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14 Novembre 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8720" y="409320"/>
              <a:ext cx="0" cy="4572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9680" y="4117680"/>
              <a:ext cx="89154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572680" y="1780920"/>
              <a:ext cx="0" cy="2743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5105160"/>
              <a:ext cx="4876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168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MODALITA’ DI AC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84400" y="932040"/>
            <a:ext cx="5940720" cy="368280"/>
            <a:chOff x="2984400" y="932040"/>
            <a:chExt cx="5940720" cy="368280"/>
          </a:xfrm>
        </p:grpSpPr>
        <p:sp>
          <p:nvSpPr>
            <p:cNvPr id="108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4880" y="932040"/>
              <a:ext cx="138024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vantGarde Md BT"/>
                </a:rPr>
                <a:t>Web 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96880" y="1117440"/>
            <a:ext cx="8089560" cy="5283360"/>
            <a:chOff x="596880" y="1117440"/>
            <a:chExt cx="8089560" cy="5283360"/>
          </a:xfrm>
        </p:grpSpPr>
        <p:sp>
          <p:nvSpPr>
            <p:cNvPr id="111" name=""/>
            <p:cNvSpPr/>
            <p:nvPr/>
          </p:nvSpPr>
          <p:spPr>
            <a:xfrm flipH="1" flipV="1">
              <a:off x="4723560" y="1447920"/>
              <a:ext cx="3962520" cy="487656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96880" y="1117440"/>
              <a:ext cx="3314520" cy="1676160"/>
              <a:chOff x="596880" y="1117440"/>
              <a:chExt cx="3314520" cy="1676160"/>
            </a:xfrm>
          </p:grpSpPr>
          <p:sp>
            <p:nvSpPr>
              <p:cNvPr id="113" name=""/>
              <p:cNvSpPr/>
              <p:nvPr/>
            </p:nvSpPr>
            <p:spPr>
              <a:xfrm>
                <a:off x="907560" y="1422000"/>
                <a:ext cx="2693160" cy="137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6880" y="1117440"/>
                <a:ext cx="33145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schema1a" descr=""/>
            <p:cNvPicPr/>
            <p:nvPr/>
          </p:nvPicPr>
          <p:blipFill>
            <a:blip r:embed="rId3"/>
            <a:stretch/>
          </p:blipFill>
          <p:spPr>
            <a:xfrm>
              <a:off x="1092240" y="1368360"/>
              <a:ext cx="7518240" cy="50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648320" y="4546440"/>
              <a:ext cx="15228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52680" y="3200400"/>
              <a:ext cx="1371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432320" y="4552920"/>
              <a:ext cx="228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44920" y="4571640"/>
              <a:ext cx="0" cy="16765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984400" y="932040"/>
            <a:ext cx="5940720" cy="368280"/>
            <a:chOff x="2984400" y="932040"/>
            <a:chExt cx="5940720" cy="368280"/>
          </a:xfrm>
        </p:grpSpPr>
        <p:sp>
          <p:nvSpPr>
            <p:cNvPr id="123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4880" y="932040"/>
              <a:ext cx="138024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vantGarde Md BT"/>
                </a:rPr>
                <a:t>Web 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27080" y="99072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 Md BT"/>
              </a:rPr>
              <a:t>RO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206360"/>
            <a:ext cx="9144000" cy="5689800"/>
            <a:chOff x="0" y="1206360"/>
            <a:chExt cx="9144000" cy="5689800"/>
          </a:xfrm>
        </p:grpSpPr>
        <p:sp>
          <p:nvSpPr>
            <p:cNvPr id="127" name=""/>
            <p:cNvSpPr/>
            <p:nvPr/>
          </p:nvSpPr>
          <p:spPr>
            <a:xfrm>
              <a:off x="826920" y="3657600"/>
              <a:ext cx="2538720" cy="1371600"/>
            </a:xfrm>
            <a:prstGeom prst="rect">
              <a:avLst/>
            </a:prstGeom>
            <a:gradFill rotWithShape="0">
              <a:gsLst>
                <a:gs pos="0">
                  <a:srgbClr val="e2ebfc"/>
                </a:gs>
                <a:gs pos="50000">
                  <a:srgbClr val="ffffff"/>
                </a:gs>
                <a:gs pos="100000">
                  <a:srgbClr val="e2ebfc"/>
                </a:gs>
              </a:gsLst>
              <a:lin ang="108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352680"/>
              <a:ext cx="3124080" cy="304920"/>
            </a:xfrm>
            <a:prstGeom prst="triangle">
              <a:avLst>
                <a:gd name="adj" fmla="val 50000"/>
              </a:avLst>
            </a:prstGeom>
            <a:solidFill>
              <a:srgbClr val="d6e4f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1206360"/>
              <a:ext cx="3123720" cy="1676160"/>
              <a:chOff x="533520" y="1206360"/>
              <a:chExt cx="3123720" cy="1676160"/>
            </a:xfrm>
          </p:grpSpPr>
          <p:sp>
            <p:nvSpPr>
              <p:cNvPr id="130" name=""/>
              <p:cNvSpPr/>
              <p:nvPr/>
            </p:nvSpPr>
            <p:spPr>
              <a:xfrm>
                <a:off x="826200" y="1510920"/>
                <a:ext cx="2538000" cy="137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520" y="1206360"/>
                <a:ext cx="31237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0" y="6591240"/>
              <a:ext cx="914400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914400" y="1447560"/>
              <a:ext cx="8000640" cy="5169240"/>
              <a:chOff x="914400" y="1447560"/>
              <a:chExt cx="8000640" cy="5169240"/>
            </a:xfrm>
          </p:grpSpPr>
          <p:sp>
            <p:nvSpPr>
              <p:cNvPr id="134" name=""/>
              <p:cNvSpPr/>
              <p:nvPr/>
            </p:nvSpPr>
            <p:spPr>
              <a:xfrm flipH="1" flipV="1">
                <a:off x="4571280" y="1447200"/>
                <a:ext cx="4343400" cy="5105160"/>
              </a:xfrm>
              <a:prstGeom prst="flowChartDocumen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schema2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1479600"/>
                <a:ext cx="7672320" cy="513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4267080" y="3276720"/>
                <a:ext cx="304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4724280"/>
                <a:ext cx="304560" cy="171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343400" y="4723920"/>
                <a:ext cx="0" cy="16765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43400" y="4724280"/>
                <a:ext cx="22860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984400" y="932040"/>
            <a:ext cx="6007320" cy="368280"/>
            <a:chOff x="2984400" y="932040"/>
            <a:chExt cx="6007320" cy="368280"/>
          </a:xfrm>
        </p:grpSpPr>
        <p:sp>
          <p:nvSpPr>
            <p:cNvPr id="143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43800" y="932040"/>
              <a:ext cx="144792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vantGarde Md BT"/>
                </a:rPr>
                <a:t>S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0" y="1104840"/>
            <a:ext cx="9144000" cy="5791320"/>
            <a:chOff x="0" y="1104840"/>
            <a:chExt cx="9144000" cy="5791320"/>
          </a:xfrm>
        </p:grpSpPr>
        <p:sp>
          <p:nvSpPr>
            <p:cNvPr id="146" name=""/>
            <p:cNvSpPr/>
            <p:nvPr/>
          </p:nvSpPr>
          <p:spPr>
            <a:xfrm>
              <a:off x="2286000" y="4343400"/>
              <a:ext cx="2133720" cy="121932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591240"/>
              <a:ext cx="914400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520" y="1320840"/>
              <a:ext cx="6476760" cy="266688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7120" y="4343400"/>
              <a:ext cx="2133360" cy="121932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0240" y="4292640"/>
              <a:ext cx="194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AvantGarde Md BT"/>
                </a:rPr>
                <a:t>INFRASTRUTTURA W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800" y="129528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 Md BT"/>
                </a:rPr>
                <a:t>INFRASTRUTTURA 2G / 3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schema4" descr=""/>
            <p:cNvPicPr/>
            <p:nvPr/>
          </p:nvPicPr>
          <p:blipFill>
            <a:blip r:embed="rId3"/>
            <a:stretch/>
          </p:blipFill>
          <p:spPr>
            <a:xfrm>
              <a:off x="876240" y="1104840"/>
              <a:ext cx="781056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4960" y="5683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vantGarde Md BT"/>
                </a:rPr>
                <a:t>+39 33X. XX.XX.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53341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54100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4800600"/>
              <a:ext cx="1526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984400" y="932040"/>
            <a:ext cx="6007320" cy="368280"/>
            <a:chOff x="2984400" y="932040"/>
            <a:chExt cx="6007320" cy="368280"/>
          </a:xfrm>
        </p:grpSpPr>
        <p:sp>
          <p:nvSpPr>
            <p:cNvPr id="160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932040"/>
              <a:ext cx="144792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vantGarde Md BT"/>
                </a:rPr>
                <a:t>SIM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1266840"/>
            <a:ext cx="9144000" cy="5629320"/>
            <a:chOff x="0" y="1266840"/>
            <a:chExt cx="9144000" cy="5629320"/>
          </a:xfrm>
        </p:grpSpPr>
        <p:sp>
          <p:nvSpPr>
            <p:cNvPr id="163" name=""/>
            <p:cNvSpPr/>
            <p:nvPr/>
          </p:nvSpPr>
          <p:spPr>
            <a:xfrm>
              <a:off x="0" y="6591240"/>
              <a:ext cx="914400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0" y="4724280"/>
              <a:ext cx="4114800" cy="1676520"/>
              <a:chOff x="0" y="4724280"/>
              <a:chExt cx="4114800" cy="1676520"/>
            </a:xfrm>
          </p:grpSpPr>
          <p:sp>
            <p:nvSpPr>
              <p:cNvPr id="165" name=""/>
              <p:cNvSpPr/>
              <p:nvPr/>
            </p:nvSpPr>
            <p:spPr>
              <a:xfrm>
                <a:off x="139680" y="5029200"/>
                <a:ext cx="3809880" cy="137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4724280"/>
                <a:ext cx="41148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52280" y="1266840"/>
              <a:ext cx="8839440" cy="513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819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PROSPETTIVE DI INTEGRAZIONE CON IL MONDO MOB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71800" y="457200"/>
            <a:ext cx="6248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99"/>
                </a:solidFill>
                <a:latin typeface="AvantGarde Md BT"/>
              </a:rPr>
              <a:t>PROSPETTIVE DI INTEGRAZIONE CON IL MONDO MOBI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127160"/>
            <a:ext cx="8610480" cy="304920"/>
          </a:xfrm>
          <a:prstGeom prst="rightArrow">
            <a:avLst>
              <a:gd name="adj1" fmla="val 32287"/>
              <a:gd name="adj2" fmla="val 110862"/>
            </a:avLst>
          </a:prstGeom>
          <a:gradFill rotWithShape="0">
            <a:gsLst>
              <a:gs pos="0">
                <a:srgbClr val="006699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" y="112716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vantGarde Md BT"/>
              </a:rPr>
              <a:t>Evoluzione Fu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508040"/>
          <a:ext cx="8610480" cy="4740480"/>
        </p:xfrm>
        <a:graphic>
          <a:graphicData uri="http://schemas.openxmlformats.org/drawingml/2006/table">
            <a:tbl>
              <a:tblPr/>
              <a:tblGrid>
                <a:gridCol w="1722240"/>
                <a:gridCol w="1722600"/>
                <a:gridCol w="1720800"/>
                <a:gridCol w="1722240"/>
                <a:gridCol w="1722600"/>
              </a:tblGrid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00"/>
                          </a:solidFill>
                          <a:latin typeface="AvantGarde Md BT"/>
                        </a:rPr>
                        <a:t>OGGI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Integrazione tra meccanismi di Accesso e Tariff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Continuita’ dei servizi utente su Connettivita’ 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Integrazione a livello di 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Device di acces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Piena Continuita’ di Sessione , Servizi e interworking fra le R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istema di Autentic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dd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istema di Tariff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dd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Continuita’ dei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ervizi Ut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eamless Handover e Continuita’ di Servi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Continuita’ di Servizio e Interworking completo tra WLAN e Reti 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9" name="end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984240"/>
          </a:xfrm>
          <a:prstGeom prst="rect">
            <a:avLst/>
          </a:prstGeom>
          <a:ln w="0">
            <a:noFill/>
          </a:ln>
        </p:spPr>
      </p:pic>
      <p:pic>
        <p:nvPicPr>
          <p:cNvPr id="180" name="web" descr=""/>
          <p:cNvPicPr/>
          <p:nvPr/>
        </p:nvPicPr>
        <p:blipFill>
          <a:blip r:embed="rId2"/>
          <a:stretch/>
        </p:blipFill>
        <p:spPr>
          <a:xfrm>
            <a:off x="3446640" y="3921120"/>
            <a:ext cx="2250720" cy="650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71600" y="533520"/>
            <a:ext cx="6400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vantGarde Md BT"/>
              </a:rPr>
              <a:t>Alfredo Impa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imparato.a@megabeam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06 52 62 04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1040" y="2286000"/>
            <a:ext cx="1968480" cy="190512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4520" y="2570040"/>
            <a:ext cx="133056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022560" y="1523880"/>
            <a:ext cx="6019920" cy="302004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Megabeam 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L’ Architettura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Modalità di accesso al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Prospettive di integrazione con il mondo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g2" descr=""/>
          <p:cNvPicPr/>
          <p:nvPr/>
        </p:nvPicPr>
        <p:blipFill>
          <a:blip r:embed="rId7"/>
          <a:stretch/>
        </p:blipFill>
        <p:spPr>
          <a:xfrm>
            <a:off x="6172200" y="4419720"/>
            <a:ext cx="2781360" cy="1608120"/>
          </a:xfrm>
          <a:prstGeom prst="rect">
            <a:avLst/>
          </a:prstGeom>
          <a:ln w="0">
            <a:noFill/>
          </a:ln>
        </p:spPr>
      </p:pic>
      <p:pic>
        <p:nvPicPr>
          <p:cNvPr id="57" name="img_sx_020" descr=""/>
          <p:cNvPicPr/>
          <p:nvPr/>
        </p:nvPicPr>
        <p:blipFill>
          <a:blip r:embed="rId8"/>
          <a:stretch/>
        </p:blipFill>
        <p:spPr>
          <a:xfrm>
            <a:off x="76320" y="533520"/>
            <a:ext cx="1676160" cy="1447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168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’ AZI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8001000" cy="375156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a Megabeam Italia S.p.A. è stata costituita nel maggio 2001 e segue la costituzione di Megabeam Networks Limited, nata in Gran Bretagna a fine 1999, da un'idea di alcuni managers di aziende del settore IT .</a:t>
            </a:r>
            <a:r>
              <a:rPr b="0" lang="it-IT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a compagine societaria di Megabeam è composta dal fondo di Venture Capital Angel Ventures (azionista di riferimento), dal fondo 2G Investimenti Spa e da un aserie di investitori priv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70200"/>
            <a:ext cx="8534160" cy="332496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Megabeam permette di collegare PC portatili o palmari ad internet ed alle LAN aziendali, in modalità wireless (senza fili), utilizzando la tecnologia 802.11b (comunemente detta Wi-Fi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a velocità di trasmissione può arrivare fino a 11 Mb per secondo, decine di volte superiore alla connessione con modem tradizionale (56 Kb per seco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990720"/>
            <a:ext cx="4876920" cy="521460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Il nostro obiettivo è essere presenti nei luoghi di transito o permanenza di un viaggio di lavoro: aeroporti, hotel, centri congres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e partnership con i principali aeroporti italiani ci permettono di coprire oltre il 75% del traffico business nazional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Megabeam risulta inoltre presente anche in alberghi con clientela business, come i nostri attuali partner: Starhotels (19 albergh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g2" descr=""/>
          <p:cNvPicPr/>
          <p:nvPr/>
        </p:nvPicPr>
        <p:blipFill>
          <a:blip r:embed="rId3"/>
          <a:stretch/>
        </p:blipFill>
        <p:spPr>
          <a:xfrm>
            <a:off x="152280" y="4064040"/>
            <a:ext cx="3657600" cy="21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g2" descr=""/>
          <p:cNvPicPr/>
          <p:nvPr/>
        </p:nvPicPr>
        <p:blipFill>
          <a:blip r:embed="rId3"/>
          <a:stretch/>
        </p:blipFill>
        <p:spPr>
          <a:xfrm>
            <a:off x="152280" y="4064040"/>
            <a:ext cx="3657600" cy="2114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3124080"/>
            <a:ext cx="3581280" cy="52056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vantGarde Md BT"/>
              </a:rPr>
              <a:t>LOCATION AT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1193760"/>
            <a:ext cx="4876920" cy="490932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-3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Mila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2 Aeroporti-4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Venez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-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Ve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Ge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-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Tri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Pa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Bolog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Nap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Val d’Ao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Progetto VINCES-12 Hot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01" descr=""/>
          <p:cNvPicPr/>
          <p:nvPr/>
        </p:nvPicPr>
        <p:blipFill>
          <a:blip r:embed="rId4"/>
          <a:stretch/>
        </p:blipFill>
        <p:spPr>
          <a:xfrm>
            <a:off x="7315200" y="2286000"/>
            <a:ext cx="1508040" cy="3108240"/>
          </a:xfrm>
          <a:prstGeom prst="rect">
            <a:avLst/>
          </a:prstGeom>
          <a:ln w="0">
            <a:noFill/>
          </a:ln>
        </p:spPr>
      </p:pic>
      <p:pic>
        <p:nvPicPr>
          <p:cNvPr id="83" name="002" descr=""/>
          <p:cNvPicPr/>
          <p:nvPr/>
        </p:nvPicPr>
        <p:blipFill>
          <a:blip r:embed="rId5"/>
          <a:stretch/>
        </p:blipFill>
        <p:spPr>
          <a:xfrm>
            <a:off x="7416720" y="1270080"/>
            <a:ext cx="150804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168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’ ARCHITET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ARCHITE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96880" y="1206360"/>
            <a:ext cx="7709040" cy="5136120"/>
            <a:chOff x="596880" y="1206360"/>
            <a:chExt cx="7709040" cy="5136120"/>
          </a:xfrm>
        </p:grpSpPr>
        <p:grpSp>
          <p:nvGrpSpPr>
            <p:cNvPr id="92" name=""/>
            <p:cNvGrpSpPr/>
            <p:nvPr/>
          </p:nvGrpSpPr>
          <p:grpSpPr>
            <a:xfrm>
              <a:off x="596880" y="1206360"/>
              <a:ext cx="7709040" cy="5118120"/>
              <a:chOff x="596880" y="1206360"/>
              <a:chExt cx="7709040" cy="511812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3657600" y="1447920"/>
                <a:ext cx="4648320" cy="4876560"/>
              </a:xfrm>
              <a:prstGeom prst="flowChartDocumen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596880" y="1206360"/>
                <a:ext cx="2438280" cy="1676160"/>
                <a:chOff x="596880" y="1206360"/>
                <a:chExt cx="2438280" cy="1676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25480" y="1510920"/>
                  <a:ext cx="1981080" cy="137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aeaea"/>
                    </a:gs>
                    <a:gs pos="50000">
                      <a:srgbClr val="ffffff"/>
                    </a:gs>
                    <a:gs pos="100000">
                      <a:srgbClr val="eaeaea"/>
                    </a:gs>
                  </a:gsLst>
                  <a:lin ang="10800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6880" y="1206360"/>
                  <a:ext cx="24382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aeaea"/>
                </a:soli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7" name="schema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1371600"/>
                <a:ext cx="718992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825480" y="3352680"/>
                <a:ext cx="2819520" cy="289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288400" y="594360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vantGarde Md BT"/>
                </a:rPr>
                <a:t>HOTSP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27:42Z</dcterms:created>
  <dc:creator>Claudio Costantini</dc:creator>
  <dc:description/>
  <dc:language>en-US</dc:language>
  <cp:lastModifiedBy>lauree</cp:lastModifiedBy>
  <dcterms:modified xsi:type="dcterms:W3CDTF">2003-11-22T13:26:56Z</dcterms:modified>
  <cp:revision>84</cp:revision>
  <dc:subject/>
  <dc:title>Presentazione di PowerPoint</dc:title>
</cp:coreProperties>
</file>