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5.wmf" ContentType="image/x-wmf"/>
  <Override PartName="/ppt/media/image10.png" ContentType="image/png"/>
  <Override PartName="/ppt/media/image30.wmf" ContentType="image/x-wmf"/>
  <Override PartName="/ppt/media/image27.png" ContentType="image/png"/>
  <Override PartName="/ppt/media/image7.wmf" ContentType="image/x-wmf"/>
  <Override PartName="/ppt/media/image8.wmf" ContentType="image/x-wmf"/>
  <Override PartName="/ppt/media/image4.png" ContentType="image/png"/>
  <Override PartName="/ppt/media/image12.jpeg" ContentType="image/jpeg"/>
  <Override PartName="/ppt/media/image9.wmf" ContentType="image/x-wmf"/>
  <Override PartName="/ppt/media/image6.png" ContentType="image/png"/>
  <Override PartName="/ppt/media/image11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14.gif" ContentType="image/gif"/>
  <Override PartName="/ppt/media/image17.png" ContentType="image/png"/>
  <Override PartName="/ppt/media/image15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3.png" ContentType="image/png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10691813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294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922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294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922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8282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0294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992280" y="144756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66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0294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992280" y="4353120"/>
            <a:ext cx="28213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828216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56960" y="435312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56960" y="1447560"/>
            <a:ext cx="427608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353120"/>
            <a:ext cx="8763120" cy="2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675000" y="7162920"/>
            <a:ext cx="860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19F7-3399-4DCE-BDAF-FFCDD62431C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1066680"/>
            <a:ext cx="8686800" cy="76320"/>
          </a:xfrm>
          <a:prstGeom prst="roundRect">
            <a:avLst>
              <a:gd name="adj" fmla="val 3333"/>
            </a:avLst>
          </a:prstGeom>
          <a:gradFill rotWithShape="0">
            <a:gsLst>
              <a:gs pos="0">
                <a:srgbClr val="d2dde8"/>
              </a:gs>
              <a:gs pos="100000">
                <a:srgbClr val="33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426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spcAft>
                <a:spcPts val="1426"/>
              </a:spcAft>
              <a:buClr>
                <a:srgbClr val="336699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12880" cy="838080"/>
          </a:xfrm>
          <a:prstGeom prst="rect">
            <a:avLst/>
          </a:prstGeom>
          <a:ln w="0">
            <a:noFill/>
          </a:ln>
        </p:spPr>
      </p:pic>
      <p:pic>
        <p:nvPicPr>
          <p:cNvPr id="5" name="mobilecomputing" descr=""/>
          <p:cNvPicPr/>
          <p:nvPr/>
        </p:nvPicPr>
        <p:blipFill>
          <a:blip r:embed="rId3"/>
          <a:stretch/>
        </p:blipFill>
        <p:spPr>
          <a:xfrm>
            <a:off x="9296280" y="228600"/>
            <a:ext cx="1219320" cy="77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685800" y="4114440"/>
            <a:ext cx="9582120" cy="2687400"/>
            <a:chOff x="685800" y="4114440"/>
            <a:chExt cx="9582120" cy="2687400"/>
          </a:xfrm>
        </p:grpSpPr>
        <p:sp>
          <p:nvSpPr>
            <p:cNvPr id="43" name=""/>
            <p:cNvSpPr/>
            <p:nvPr/>
          </p:nvSpPr>
          <p:spPr>
            <a:xfrm>
              <a:off x="685800" y="4647960"/>
              <a:ext cx="9582120" cy="49320"/>
            </a:xfrm>
            <a:prstGeom prst="roundRect">
              <a:avLst>
                <a:gd name="adj" fmla="val 3333"/>
              </a:avLst>
            </a:prstGeom>
            <a:gradFill rotWithShape="0">
              <a:gsLst>
                <a:gs pos="0">
                  <a:srgbClr val="b3c6d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16200000">
              <a:off x="-21960" y="5431680"/>
              <a:ext cx="2687400" cy="52560"/>
            </a:xfrm>
            <a:prstGeom prst="roundRect">
              <a:avLst>
                <a:gd name="adj" fmla="val 3125"/>
              </a:avLst>
            </a:prstGeom>
            <a:gradFill rotWithShape="0">
              <a:gsLst>
                <a:gs pos="0">
                  <a:srgbClr val="b3c6d8"/>
                </a:gs>
                <a:gs pos="100000">
                  <a:srgbClr val="33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79560" cy="1009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895480" y="5029200"/>
            <a:ext cx="53434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2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. Giuseppe Anasta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cente di </a:t>
            </a:r>
            <a:r>
              <a:rPr b="0" lang="en-GB" sz="1800" spc="-1" strike="noStrike">
                <a:solidFill>
                  <a:srgbClr val="336699"/>
                </a:solidFill>
                <a:latin typeface="Arial"/>
              </a:rPr>
              <a:t>Applicazioni per Computer Mobi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colta’ di Ingegneria – Universita’ di Pi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mobilecomputing" descr=""/>
          <p:cNvPicPr/>
          <p:nvPr/>
        </p:nvPicPr>
        <p:blipFill>
          <a:blip r:embed="rId3"/>
          <a:stretch/>
        </p:blipFill>
        <p:spPr>
          <a:xfrm>
            <a:off x="9067680" y="304920"/>
            <a:ext cx="121932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666880" y="457200"/>
            <a:ext cx="5715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2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iornata di studio sul Mobile Comp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2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Il Futuro di Internet e’ Wire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2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coltà di Ingegneria - 14 Novembre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0"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spcAft>
                <a:spcPts val="57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jpe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057400"/>
            <a:ext cx="1015812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cnologie Wireless e Applicazioni Mobili</a:t>
            </a:r>
            <a:br>
              <a:rPr sz="28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altà e Prosp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914400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onibilità del servizio: Wi-Fi Hotsp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bilità su scala locale (edifici, camp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2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11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EEE 802.11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o a 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di copertura dipendente dalla bi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3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4 Mbp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-8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i limitati o n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3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30000"/>
              </a:lnSpc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wireless-ethernet" descr=""/>
          <p:cNvPicPr/>
          <p:nvPr/>
        </p:nvPicPr>
        <p:blipFill>
          <a:blip r:embed="rId1"/>
          <a:stretch/>
        </p:blipFill>
        <p:spPr>
          <a:xfrm>
            <a:off x="6324480" y="3048120"/>
            <a:ext cx="3864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 in Ad Hoc Mo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9448560" cy="579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Rete Ad Ho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nsieme di nodi che comunicano in modo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ssuna infrastruttura di rete fissa (</a:t>
            </a:r>
            <a:r>
              <a:rPr b="0" lang="en-US" sz="1400" spc="-1" strike="noStrike">
                <a:solidFill>
                  <a:srgbClr val="336699"/>
                </a:solidFill>
                <a:latin typeface="Arial"/>
              </a:rPr>
              <a:t>infrastructure-less network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di intermedi agiscono da router (comunicazione multi-ho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zione dinamic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ili aree di applic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e delle Emerg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i: nu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ocolli tradizionali non adegu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uting per ambiente multi-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spo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stione Energ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adhocb&amp;w" descr=""/>
          <p:cNvPicPr/>
          <p:nvPr/>
        </p:nvPicPr>
        <p:blipFill>
          <a:blip r:embed="rId1"/>
          <a:stretch/>
        </p:blipFill>
        <p:spPr>
          <a:xfrm>
            <a:off x="5562720" y="3124080"/>
            <a:ext cx="43434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-Fi in Ad Hoc Mode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o a Internet tramite rete ad h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scenario_MIE" descr=""/>
          <p:cNvPicPr/>
          <p:nvPr/>
        </p:nvPicPr>
        <p:blipFill>
          <a:blip r:embed="rId1"/>
          <a:stretch/>
        </p:blipFill>
        <p:spPr>
          <a:xfrm>
            <a:off x="4267080" y="2895480"/>
            <a:ext cx="3222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luetooth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 wireless a corto raggio (10 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ssioni in modalita’ ad hoc e riconfigur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ssione di dispositivi eterogen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book, Palmari, PC, 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i, Auricolari, Lettori MP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sori, Attu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ita’ di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ce, dati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’ d’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si consumi energ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Bluetooth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1752480"/>
            <a:ext cx="5410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HG Mincho Light J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HG Mincho Light J"/>
              </a:rPr>
              <a:t>Personal Area Networks (P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Interconessione di dispositivi person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(PC, stampante, notebook, palm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,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HG Mincho Light J"/>
              </a:rPr>
              <a:t> cellular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943600" y="1600200"/>
            <a:ext cx="4024440" cy="2332080"/>
            <a:chOff x="5943600" y="1600200"/>
            <a:chExt cx="4024440" cy="2332080"/>
          </a:xfrm>
        </p:grpSpPr>
        <p:sp>
          <p:nvSpPr>
            <p:cNvPr id="225" name=""/>
            <p:cNvSpPr/>
            <p:nvPr/>
          </p:nvSpPr>
          <p:spPr>
            <a:xfrm>
              <a:off x="5943600" y="1632960"/>
              <a:ext cx="3956040" cy="229932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"/>
            <p:cNvGrpSpPr/>
            <p:nvPr/>
          </p:nvGrpSpPr>
          <p:grpSpPr>
            <a:xfrm>
              <a:off x="6027480" y="1600200"/>
              <a:ext cx="3753720" cy="2208240"/>
              <a:chOff x="6027480" y="1600200"/>
              <a:chExt cx="3753720" cy="2208240"/>
            </a:xfrm>
          </p:grpSpPr>
          <p:sp>
            <p:nvSpPr>
              <p:cNvPr id="227" name=""/>
              <p:cNvSpPr/>
              <p:nvPr/>
            </p:nvSpPr>
            <p:spPr>
              <a:xfrm>
                <a:off x="7486920" y="2373840"/>
                <a:ext cx="1022760" cy="792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027480" y="244080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339760" y="161712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793200" y="1617120"/>
                <a:ext cx="849240" cy="657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1" name="Notepadcomp" descr=""/>
              <p:cNvPicPr/>
              <p:nvPr/>
            </p:nvPicPr>
            <p:blipFill>
              <a:blip r:embed="rId1"/>
              <a:stretch/>
            </p:blipFill>
            <p:spPr>
              <a:xfrm>
                <a:off x="6797520" y="1600200"/>
                <a:ext cx="887040" cy="60840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8409600" y="3429000"/>
                <a:ext cx="708480" cy="3628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3" name="Laptop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0280" y="2479320"/>
                <a:ext cx="697680" cy="6454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4" name="Petronella" descr=""/>
              <p:cNvPicPr/>
              <p:nvPr/>
            </p:nvPicPr>
            <p:blipFill>
              <a:blip r:embed="rId4"/>
              <a:stretch/>
            </p:blipFill>
            <p:spPr>
              <a:xfrm>
                <a:off x="8509680" y="1611000"/>
                <a:ext cx="453240" cy="6087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5" name="Headset" descr=""/>
              <p:cNvPicPr/>
              <p:nvPr/>
            </p:nvPicPr>
            <p:blipFill>
              <a:blip r:embed="rId5"/>
              <a:stretch/>
            </p:blipFill>
            <p:spPr>
              <a:xfrm>
                <a:off x="6885360" y="3223080"/>
                <a:ext cx="629280" cy="57168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</p:pic>
          <p:pic>
            <p:nvPicPr>
              <p:cNvPr id="236" name="Marianne" descr=""/>
              <p:cNvPicPr/>
              <p:nvPr/>
            </p:nvPicPr>
            <p:blipFill>
              <a:blip r:embed="rId6"/>
              <a:stretch/>
            </p:blipFill>
            <p:spPr>
              <a:xfrm>
                <a:off x="7811640" y="2368800"/>
                <a:ext cx="381960" cy="81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"/>
              <p:cNvSpPr/>
              <p:nvPr/>
            </p:nvSpPr>
            <p:spPr>
              <a:xfrm>
                <a:off x="6199920" y="3288240"/>
                <a:ext cx="884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ordless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Headse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967960" y="345024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mer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6876360" y="2158560"/>
                <a:ext cx="2233080" cy="1223640"/>
                <a:chOff x="6876360" y="2158560"/>
                <a:chExt cx="2233080" cy="122364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876360" y="2718000"/>
                  <a:ext cx="2233080" cy="102960"/>
                  <a:chOff x="6876360" y="2718000"/>
                  <a:chExt cx="2233080" cy="10296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876360" y="2718000"/>
                    <a:ext cx="595080" cy="102960"/>
                    <a:chOff x="6876360" y="2718000"/>
                    <a:chExt cx="595080" cy="1029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 rot="16200000">
                      <a:off x="7121160" y="2552400"/>
                      <a:ext cx="102960" cy="434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390080" y="2718000"/>
                      <a:ext cx="81360" cy="102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flipH="1">
                      <a:off x="6876000" y="2718000"/>
                      <a:ext cx="78840" cy="10296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8469360" y="2718000"/>
                    <a:ext cx="640080" cy="102960"/>
                    <a:chOff x="8469360" y="2718000"/>
                    <a:chExt cx="640080" cy="10296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16200000">
                      <a:off x="8736480" y="2529720"/>
                      <a:ext cx="102960" cy="4791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9028080" y="2718000"/>
                      <a:ext cx="81360" cy="102960"/>
                    </a:xfrm>
                    <a:custGeom>
                      <a:avLst/>
                      <a:gdLst>
                        <a:gd name="textAreaLeft" fmla="*/ 0 w 81360"/>
                        <a:gd name="textAreaRight" fmla="*/ 81720 w 8136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8469000" y="2718000"/>
                      <a:ext cx="78840" cy="102960"/>
                    </a:xfrm>
                    <a:custGeom>
                      <a:avLst/>
                      <a:gdLst>
                        <a:gd name="textAreaLeft" fmla="*/ -360 w 78840"/>
                        <a:gd name="textAreaRight" fmla="*/ 78840 w 78840"/>
                        <a:gd name="textAreaTop" fmla="*/ 0 h 102960"/>
                        <a:gd name="textAreaBottom" fmla="*/ 103320 h 1029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9" name=""/>
                <p:cNvGrpSpPr/>
                <p:nvPr/>
              </p:nvGrpSpPr>
              <p:grpSpPr>
                <a:xfrm>
                  <a:off x="7442280" y="2158560"/>
                  <a:ext cx="1085760" cy="1205640"/>
                  <a:chOff x="7442280" y="2158560"/>
                  <a:chExt cx="1085760" cy="1205640"/>
                </a:xfrm>
              </p:grpSpPr>
              <p:grpSp>
                <p:nvGrpSpPr>
                  <p:cNvPr id="250" name=""/>
                  <p:cNvGrpSpPr/>
                  <p:nvPr/>
                </p:nvGrpSpPr>
                <p:grpSpPr>
                  <a:xfrm>
                    <a:off x="7442280" y="2158560"/>
                    <a:ext cx="296640" cy="313200"/>
                    <a:chOff x="7442280" y="2158560"/>
                    <a:chExt cx="296640" cy="313200"/>
                  </a:xfrm>
                </p:grpSpPr>
                <p:sp>
                  <p:nvSpPr>
                    <p:cNvPr id="251" name=""/>
                    <p:cNvSpPr/>
                    <p:nvPr/>
                  </p:nvSpPr>
                  <p:spPr>
                    <a:xfrm flipH="1" rot="8401800">
                      <a:off x="7536600" y="2231280"/>
                      <a:ext cx="108360" cy="16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rot="3001800">
                      <a:off x="7470000" y="2168280"/>
                      <a:ext cx="77040" cy="10836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3001200">
                      <a:off x="7635600" y="2353680"/>
                      <a:ext cx="74880" cy="108360"/>
                    </a:xfrm>
                    <a:custGeom>
                      <a:avLst/>
                      <a:gdLst>
                        <a:gd name="textAreaLeft" fmla="*/ 0 w 74880"/>
                        <a:gd name="textAreaRight" fmla="*/ 75240 w 7488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8231400" y="3051000"/>
                    <a:ext cx="296640" cy="313200"/>
                    <a:chOff x="8231400" y="3051000"/>
                    <a:chExt cx="296640" cy="3132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8401800">
                      <a:off x="8325720" y="3123720"/>
                      <a:ext cx="108360" cy="16812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3001800">
                      <a:off x="8259120" y="3060720"/>
                      <a:ext cx="77040" cy="108360"/>
                    </a:xfrm>
                    <a:custGeom>
                      <a:avLst/>
                      <a:gdLst>
                        <a:gd name="textAreaLeft" fmla="*/ 360 w 77040"/>
                        <a:gd name="textAreaRight" fmla="*/ 77760 w 7704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rot="3001200">
                      <a:off x="8424720" y="3246120"/>
                      <a:ext cx="74880" cy="108360"/>
                    </a:xfrm>
                    <a:custGeom>
                      <a:avLst/>
                      <a:gdLst>
                        <a:gd name="textAreaLeft" fmla="*/ 0 w 74880"/>
                        <a:gd name="textAreaRight" fmla="*/ 75240 w 74880"/>
                        <a:gd name="textAreaTop" fmla="*/ 0 h 108360"/>
                        <a:gd name="textAreaBottom" fmla="*/ 108720 h 108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21600" y="10800"/>
                          </a:lnTo>
                          <a:lnTo>
                            <a:pt x="0" y="21600"/>
                          </a:lnTo>
                          <a:lnTo>
                            <a:pt x="0" y="2160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8231760" y="2176200"/>
                  <a:ext cx="296640" cy="313560"/>
                  <a:chOff x="8231760" y="2176200"/>
                  <a:chExt cx="296640" cy="313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 rot="13198200">
                    <a:off x="8325360" y="2249280"/>
                    <a:ext cx="108360" cy="16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rot="18598200">
                    <a:off x="8423640" y="2185920"/>
                    <a:ext cx="77040" cy="108360"/>
                  </a:xfrm>
                  <a:custGeom>
                    <a:avLst/>
                    <a:gdLst>
                      <a:gd name="textAreaLeft" fmla="*/ 0 w 77040"/>
                      <a:gd name="textAreaRight" fmla="*/ 77400 w 7704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H="1" rot="18598800">
                    <a:off x="8259480" y="2371320"/>
                    <a:ext cx="74880" cy="1087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" name=""/>
                <p:cNvGrpSpPr/>
                <p:nvPr/>
              </p:nvGrpSpPr>
              <p:grpSpPr>
                <a:xfrm>
                  <a:off x="7441560" y="3068640"/>
                  <a:ext cx="297360" cy="313560"/>
                  <a:chOff x="7441560" y="3068640"/>
                  <a:chExt cx="297360" cy="31356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13198200">
                    <a:off x="7535160" y="3141360"/>
                    <a:ext cx="108360" cy="1677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18598200">
                    <a:off x="7634160" y="3078720"/>
                    <a:ext cx="77040" cy="108360"/>
                  </a:xfrm>
                  <a:custGeom>
                    <a:avLst/>
                    <a:gdLst>
                      <a:gd name="textAreaLeft" fmla="*/ 0 w 77040"/>
                      <a:gd name="textAreaRight" fmla="*/ 77400 w 77040"/>
                      <a:gd name="textAreaTop" fmla="*/ 0 h 108360"/>
                      <a:gd name="textAreaBottom" fmla="*/ 108720 h 1083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H="1" rot="18598800">
                    <a:off x="7469280" y="3263760"/>
                    <a:ext cx="74880" cy="108720"/>
                  </a:xfrm>
                  <a:custGeom>
                    <a:avLst/>
                    <a:gdLst>
                      <a:gd name="textAreaLeft" fmla="*/ 360 w 74880"/>
                      <a:gd name="textAreaRight" fmla="*/ 75600 w 74880"/>
                      <a:gd name="textAreaTop" fmla="*/ 0 h 108720"/>
                      <a:gd name="textAreaBottom" fmla="*/ 109080 h 10872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21600" y="10800"/>
                        </a:lnTo>
                        <a:lnTo>
                          <a:pt x="0" y="21600"/>
                        </a:lnTo>
                        <a:lnTo>
                          <a:pt x="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pic>
          <p:nvPicPr>
            <p:cNvPr id="266" name="" descr=""/>
            <p:cNvPicPr/>
            <p:nvPr/>
          </p:nvPicPr>
          <p:blipFill>
            <a:blip r:embed="rId7"/>
            <a:stretch/>
          </p:blipFill>
          <p:spPr>
            <a:xfrm>
              <a:off x="9132480" y="2525400"/>
              <a:ext cx="835560" cy="5558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</p:pic>
      </p:grpSp>
      <p:sp>
        <p:nvSpPr>
          <p:cNvPr id="267" name=""/>
          <p:cNvSpPr/>
          <p:nvPr/>
        </p:nvSpPr>
        <p:spPr>
          <a:xfrm>
            <a:off x="4495680" y="5257800"/>
            <a:ext cx="5715000" cy="16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2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ody Area Networks (BA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conessione di dispositivi wea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190440">
              <a:lnSpc>
                <a:spcPct val="120000"/>
              </a:lnSpc>
              <a:spcBef>
                <a:spcPts val="6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(Palmare, Cellulare, Lettore MP3, Cuffie, Display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ban" descr=""/>
          <p:cNvPicPr/>
          <p:nvPr/>
        </p:nvPicPr>
        <p:blipFill>
          <a:blip r:embed="rId8"/>
          <a:stretch/>
        </p:blipFill>
        <p:spPr>
          <a:xfrm>
            <a:off x="1676520" y="4191120"/>
            <a:ext cx="30416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reless Interne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 a Int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where, anytime, any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Per fare cosa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hoto" descr=""/>
          <p:cNvPicPr/>
          <p:nvPr/>
        </p:nvPicPr>
        <p:blipFill>
          <a:blip r:embed="rId1"/>
          <a:stretch/>
        </p:blipFill>
        <p:spPr>
          <a:xfrm>
            <a:off x="4419720" y="2743200"/>
            <a:ext cx="268452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pplicazion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i tradizi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Visita di siti We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tura di g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ornali on-line,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v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Rice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E-ma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Fax, Trasferimento di file, 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lefonate tramit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4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4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ove Applic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7010280" cy="5257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3352680" y="2743200"/>
            <a:ext cx="914400" cy="152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209680" y="1600200"/>
            <a:ext cx="7010640" cy="5257800"/>
            <a:chOff x="2209680" y="1600200"/>
            <a:chExt cx="7010640" cy="5257800"/>
          </a:xfrm>
        </p:grpSpPr>
        <p:pic>
          <p:nvPicPr>
            <p:cNvPr id="279" name="" descr=""/>
            <p:cNvPicPr/>
            <p:nvPr/>
          </p:nvPicPr>
          <p:blipFill>
            <a:blip r:embed="rId1"/>
            <a:stretch/>
          </p:blipFill>
          <p:spPr>
            <a:xfrm>
              <a:off x="2209680" y="1600200"/>
              <a:ext cx="7010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876920" y="2971800"/>
              <a:ext cx="914400" cy="1522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uove Applicazioni (1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600200" y="2133720"/>
            <a:ext cx="7391520" cy="5257800"/>
            <a:chOff x="1600200" y="2133720"/>
            <a:chExt cx="7391520" cy="5257800"/>
          </a:xfrm>
        </p:grpSpPr>
        <p:pic>
          <p:nvPicPr>
            <p:cNvPr id="283" name="" descr=""/>
            <p:cNvPicPr/>
            <p:nvPr/>
          </p:nvPicPr>
          <p:blipFill>
            <a:blip r:embed="rId1"/>
            <a:stretch/>
          </p:blipFill>
          <p:spPr>
            <a:xfrm>
              <a:off x="1981080" y="2133720"/>
              <a:ext cx="70106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1600200" y="6248520"/>
              <a:ext cx="7391520" cy="11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egli ultimi anni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9193320" cy="487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scita vertiginosa di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m delle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unicazioni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a cellu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S, 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80000"/>
              </a:lnSpc>
              <a:spcBef>
                <a:spcPts val="1800"/>
              </a:spcBef>
              <a:spcAft>
                <a:spcPts val="751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e crescente di 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dispositivi portat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olatori Pal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 cellulari e smart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 Digital Assistant (P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80000"/>
              </a:lnSpc>
              <a:spcBef>
                <a:spcPts val="1349"/>
              </a:spcBef>
              <a:spcAft>
                <a:spcPts val="561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ositivi Handheld (digital audio players, handheld games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pplicazioni context-aw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i il cui comportamento dipende dal contesto in cui l’utente si tr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n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 definisce contesto qualsiasi informazione che possa essere usata per caratterizzare la situazione di un’entità, ed un’entità può essere una persona, un posto o un oggetto che è considerato rilevante ai fini dell’interazione tra l’utente e l’applicazione, includendo l’utente e l’applicazione stessi.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test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92203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ta’ dell’u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spazi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osizione, orientamento, velocita’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tempora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giorno della settimana, data, ora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sull’ambi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emperatura, umidita’ luminosita’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zione soci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ersone in prossimita’ dell’ut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orse vic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tazioni di lavoro, stampanti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onibilita’ delle riso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livello della batteria, connettivita’, banda disponibil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zioni di carattere fisiolog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ressione del sangue, battito cardia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ivita’ dell’uten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rlare, camminare, correre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i programma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dati inseriti in agenda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l sistema GUID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90676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a di guida elettronica per assistere i turisti nella visita della città di Lancas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iluppato presso Università di Lancaster (1999-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asato su tecnologia Wi-F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nti di access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spositivi portatili con buona interfaccia 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mette di generare percorsi person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esse pers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mpo disponi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 il turista lungo il percorso selezionato fornendo informazioni sulle at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funzionali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nerazione di percorsi person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o a informazioni relative alle attrazioni sul per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ccesso a servizi intera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cquisto di biglietti on-line (es. per ingresso a un mus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notazione di alberghi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vio e ricezioni di messag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altri visit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l Centro Turis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azione con altri visit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visitatore può far conoscere la sua posizione ad altri visitatori dello stesso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percorsi personalizzat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essi personali del vis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zioni della cit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incoli di 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po dispon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rari di visita delle at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mpo atmosfer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ponibilità economica del vis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ccadere che un percorso debba essere riadattato dinamicamente a seguito di eventi non previsti (es. piogg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3200" spc="-1" strike="noStrike">
                <a:solidFill>
                  <a:srgbClr val="336699"/>
                </a:solidFill>
                <a:latin typeface="Arial"/>
              </a:rPr>
              <a:t>GUIDE: rilevamento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del contest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zioni person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essi personali, vincoli di mobil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isponibili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conomich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ite dall’utente st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levamento della posizion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asato su tecnologia Wi-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Beaconing periodi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i Punti di A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850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Broadcast dell’identità della c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spcAft>
                <a:spcPts val="850"/>
              </a:spcAft>
              <a:buClr>
                <a:srgbClr val="336699"/>
              </a:buClr>
              <a:buSzPct val="45000"/>
              <a:buFont typeface="Wingdings" charset="2"/>
              <a:buChar char="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dispositivo dell’utente apprende la sua posizione e la comunica al sist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sto ambi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sori di temperatura, pioggia, ec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onclusioni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89917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ra di Wireless Internet è già cominci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ternet non sarà semplicemente la possibilità di accedere a Internet anche in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ternet si prefigura come una nuova svolta tecnologica che culminerà nel pervasive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mpatto sociale ed economico sarà ri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unione fra informatica e telecomunicazioni si consoliderà sempre pi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re discipline saranno coinvolte in questo menage (elettronica, controlli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grande sfida attende le nuove generazioni di ingegn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ecnologie Wireless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69320" y="1828800"/>
            <a:ext cx="5583960" cy="2199600"/>
            <a:chOff x="2569320" y="1828800"/>
            <a:chExt cx="5583960" cy="2199600"/>
          </a:xfrm>
        </p:grpSpPr>
        <p:sp>
          <p:nvSpPr>
            <p:cNvPr id="301" name=""/>
            <p:cNvSpPr/>
            <p:nvPr/>
          </p:nvSpPr>
          <p:spPr>
            <a:xfrm>
              <a:off x="2651040" y="2405160"/>
              <a:ext cx="466920" cy="4762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651040" y="2249640"/>
              <a:ext cx="1065240" cy="839880"/>
            </a:xfrm>
            <a:prstGeom prst="ellipse">
              <a:avLst/>
            </a:prstGeom>
            <a:noFill/>
            <a:ln w="507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651040" y="2038320"/>
              <a:ext cx="2932200" cy="1260720"/>
            </a:xfrm>
            <a:prstGeom prst="ellipse">
              <a:avLst/>
            </a:prstGeom>
            <a:noFill/>
            <a:ln w="63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651040" y="1828800"/>
              <a:ext cx="5265720" cy="1679760"/>
            </a:xfrm>
            <a:prstGeom prst="ellipse">
              <a:avLst/>
            </a:prstGeom>
            <a:noFill/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593440" y="2509920"/>
              <a:ext cx="56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B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26600" y="251316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0000"/>
                  </a:solidFill>
                  <a:latin typeface="Arial"/>
                </a:rPr>
                <a:t>P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25240" y="253836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WLA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58800" y="2509920"/>
              <a:ext cx="12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0000"/>
                  </a:solidFill>
                  <a:latin typeface="Arial"/>
                </a:rPr>
                <a:t>Rete Cellula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51040" y="3721320"/>
              <a:ext cx="4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17760" y="372132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16240" y="3721320"/>
              <a:ext cx="146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5583240" y="3721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49800" y="3721320"/>
              <a:ext cx="18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651120" y="3721320"/>
              <a:ext cx="465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3117960" y="3721320"/>
              <a:ext cx="466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569320" y="372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29760" y="3721320"/>
              <a:ext cx="65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80080" y="3721320"/>
              <a:ext cx="8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00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94680" y="3721320"/>
              <a:ext cx="85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~1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2514600" y="4724280"/>
            <a:ext cx="6705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GSM-GPRS-UMT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te cellular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-F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Wireless LA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uetoot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sonal Area Network (PAN)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luetoot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ody Area Network (PAN)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oprattutto in Giappon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322" name="W-Internet_Torta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36702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Gestione della mobili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a’ dell’utente gestita dalla ret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sparente ai livelli IP e T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2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gli indirizzi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2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voluzione del rapporto uomo-computer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52680" y="1981080"/>
            <a:ext cx="2971800" cy="3495600"/>
            <a:chOff x="3352680" y="1981080"/>
            <a:chExt cx="2971800" cy="3495600"/>
          </a:xfrm>
        </p:grpSpPr>
        <p:sp>
          <p:nvSpPr>
            <p:cNvPr id="92" name=""/>
            <p:cNvSpPr/>
            <p:nvPr/>
          </p:nvSpPr>
          <p:spPr>
            <a:xfrm>
              <a:off x="4190760" y="2209680"/>
              <a:ext cx="1905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una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3" name=""/>
            <p:cNvGraphicFramePr/>
            <p:nvPr/>
          </p:nvGraphicFramePr>
          <p:xfrm>
            <a:off x="4114440" y="3504960"/>
            <a:ext cx="2210040" cy="197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14440" y="3504960"/>
                      <a:ext cx="22100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3352680" y="3504960"/>
              <a:ext cx="685800" cy="6098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152280 h 609840"/>
                <a:gd name="textAreaBottom" fmla="*/ 457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00320" y="1981080"/>
              <a:ext cx="2209680" cy="13716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838080" y="1752480"/>
            <a:ext cx="2666880" cy="4495680"/>
            <a:chOff x="838080" y="1752480"/>
            <a:chExt cx="2666880" cy="4495680"/>
          </a:xfrm>
        </p:grpSpPr>
        <p:sp>
          <p:nvSpPr>
            <p:cNvPr id="98" name=""/>
            <p:cNvSpPr/>
            <p:nvPr/>
          </p:nvSpPr>
          <p:spPr>
            <a:xfrm>
              <a:off x="1066680" y="1842840"/>
              <a:ext cx="2286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un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molte pers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1295280" y="4586040"/>
            <a:ext cx="1728720" cy="1662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4586040"/>
                      <a:ext cx="1728720" cy="16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1" name="j0223562" descr=""/>
            <p:cNvPicPr/>
            <p:nvPr/>
          </p:nvPicPr>
          <p:blipFill>
            <a:blip r:embed="rId5"/>
            <a:stretch/>
          </p:blipFill>
          <p:spPr>
            <a:xfrm>
              <a:off x="1523880" y="2985840"/>
              <a:ext cx="148572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38080" y="1752480"/>
              <a:ext cx="2666880" cy="1143000"/>
            </a:xfrm>
            <a:prstGeom prst="ellipse">
              <a:avLst/>
            </a:prstGeom>
            <a:noFill/>
            <a:ln w="38160">
              <a:solidFill>
                <a:srgbClr val="99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400800" y="1600200"/>
            <a:ext cx="3048120" cy="4952880"/>
            <a:chOff x="6400800" y="1600200"/>
            <a:chExt cx="3048120" cy="4952880"/>
          </a:xfrm>
        </p:grpSpPr>
        <p:graphicFrame>
          <p:nvGraphicFramePr>
            <p:cNvPr id="104" name=""/>
            <p:cNvGraphicFramePr/>
            <p:nvPr/>
          </p:nvGraphicFramePr>
          <p:xfrm>
            <a:off x="7467840" y="2894040"/>
            <a:ext cx="785520" cy="20588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467840" y="2894040"/>
                      <a:ext cx="785520" cy="205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" name="j0093585" descr=""/>
            <p:cNvPicPr/>
            <p:nvPr/>
          </p:nvPicPr>
          <p:blipFill>
            <a:blip r:embed="rId8"/>
            <a:stretch/>
          </p:blipFill>
          <p:spPr>
            <a:xfrm>
              <a:off x="7467840" y="1600200"/>
              <a:ext cx="106668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j0235964" descr=""/>
            <p:cNvPicPr/>
            <p:nvPr/>
          </p:nvPicPr>
          <p:blipFill>
            <a:blip r:embed="rId9"/>
            <a:stretch/>
          </p:blipFill>
          <p:spPr>
            <a:xfrm>
              <a:off x="8382240" y="3276360"/>
              <a:ext cx="68580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400800" y="3504960"/>
              <a:ext cx="685800" cy="609840"/>
            </a:xfrm>
            <a:custGeom>
              <a:avLst/>
              <a:gdLst>
                <a:gd name="textAreaLeft" fmla="*/ 85680 w 685800"/>
                <a:gd name="textAreaRight" fmla="*/ 600120 w 685800"/>
                <a:gd name="textAreaTop" fmla="*/ 152280 h 609840"/>
                <a:gd name="textAreaBottom" fmla="*/ 45756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10640" y="5332320"/>
              <a:ext cx="190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molti computer al serviz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 una 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0" name="j0223604" descr=""/>
            <p:cNvPicPr/>
            <p:nvPr/>
          </p:nvPicPr>
          <p:blipFill>
            <a:blip r:embed="rId10"/>
            <a:stretch/>
          </p:blipFill>
          <p:spPr>
            <a:xfrm>
              <a:off x="6934320" y="2438280"/>
              <a:ext cx="343080" cy="8380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11" name=""/>
            <p:cNvGraphicFramePr/>
            <p:nvPr/>
          </p:nvGraphicFramePr>
          <p:xfrm>
            <a:off x="8723520" y="2209680"/>
            <a:ext cx="45072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723520" y="2209680"/>
                      <a:ext cx="4507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6400800" y="5029200"/>
              <a:ext cx="3048120" cy="1523880"/>
            </a:xfrm>
            <a:custGeom>
              <a:avLst/>
              <a:gdLst>
                <a:gd name="textAreaLeft" fmla="*/ 695880 w 3048120"/>
                <a:gd name="textAreaRight" fmla="*/ 2352240 w 3048120"/>
                <a:gd name="textAreaTop" fmla="*/ 347760 h 1523880"/>
                <a:gd name="textAreaBottom" fmla="*/ 117612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noFill/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bile Internet: Architettur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 rot="21118800">
            <a:off x="3400560" y="2825640"/>
            <a:ext cx="2620800" cy="81288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9686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                              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19440" y="2952720"/>
            <a:ext cx="3247920" cy="857160"/>
          </a:xfrm>
          <a:prstGeom prst="ellipse">
            <a:avLst/>
          </a:prstGeom>
          <a:gradFill rotWithShape="0">
            <a:gsLst>
              <a:gs pos="0">
                <a:srgbClr val="75a3d1"/>
              </a:gs>
              <a:gs pos="50000">
                <a:srgbClr val="eff4f9"/>
              </a:gs>
              <a:gs pos="100000">
                <a:srgbClr val="75a3d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152880" y="2724120"/>
            <a:ext cx="4362480" cy="1371600"/>
            <a:chOff x="3152880" y="2724120"/>
            <a:chExt cx="4362480" cy="1371600"/>
          </a:xfrm>
        </p:grpSpPr>
        <p:sp>
          <p:nvSpPr>
            <p:cNvPr id="329" name=""/>
            <p:cNvSpPr/>
            <p:nvPr/>
          </p:nvSpPr>
          <p:spPr>
            <a:xfrm>
              <a:off x="3152880" y="2724120"/>
              <a:ext cx="4362480" cy="1371600"/>
            </a:xfrm>
            <a:prstGeom prst="ellipse">
              <a:avLst/>
            </a:prstGeom>
            <a:gradFill rotWithShape="0">
              <a:gsLst>
                <a:gs pos="0">
                  <a:srgbClr val="55261c"/>
                </a:gs>
                <a:gs pos="100000">
                  <a:srgbClr val="dcebf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619440" y="2895480"/>
              <a:ext cx="3247920" cy="857520"/>
            </a:xfrm>
            <a:prstGeom prst="ellipse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 txBox="1"/>
          <p:nvPr/>
        </p:nvSpPr>
        <p:spPr>
          <a:xfrm rot="21409800">
            <a:off x="4330440" y="2889360"/>
            <a:ext cx="2770200" cy="9968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Down">
              <a:avLst>
                <a:gd name="adj" fmla="val 353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7800" y="3809880"/>
            <a:ext cx="360000" cy="228600"/>
            <a:chOff x="5257800" y="3809880"/>
            <a:chExt cx="360000" cy="228600"/>
          </a:xfrm>
        </p:grpSpPr>
        <p:sp>
          <p:nvSpPr>
            <p:cNvPr id="333" name=""/>
            <p:cNvSpPr/>
            <p:nvPr/>
          </p:nvSpPr>
          <p:spPr>
            <a:xfrm>
              <a:off x="5257800" y="3809880"/>
              <a:ext cx="360000" cy="22860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7800" y="3809880"/>
              <a:ext cx="360000" cy="11412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438160" y="3866760"/>
              <a:ext cx="179640" cy="1713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3429000" y="3505320"/>
            <a:ext cx="329760" cy="209520"/>
            <a:chOff x="3429000" y="3505320"/>
            <a:chExt cx="329760" cy="209520"/>
          </a:xfrm>
        </p:grpSpPr>
        <p:sp>
          <p:nvSpPr>
            <p:cNvPr id="337" name=""/>
            <p:cNvSpPr/>
            <p:nvPr/>
          </p:nvSpPr>
          <p:spPr>
            <a:xfrm>
              <a:off x="3429000" y="3505320"/>
              <a:ext cx="329760" cy="2095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29000" y="3505320"/>
              <a:ext cx="329760" cy="10476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94240" y="3557520"/>
              <a:ext cx="164520" cy="15732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858000" y="3276720"/>
            <a:ext cx="328320" cy="207720"/>
            <a:chOff x="6858000" y="3276720"/>
            <a:chExt cx="328320" cy="207720"/>
          </a:xfrm>
        </p:grpSpPr>
        <p:sp>
          <p:nvSpPr>
            <p:cNvPr id="341" name=""/>
            <p:cNvSpPr/>
            <p:nvPr/>
          </p:nvSpPr>
          <p:spPr>
            <a:xfrm>
              <a:off x="6858000" y="3276720"/>
              <a:ext cx="328320" cy="20772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192" y="48"/>
                  </a:lnTo>
                  <a:lnTo>
                    <a:pt x="192" y="144"/>
                  </a:lnTo>
                  <a:lnTo>
                    <a:pt x="96" y="19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66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858000" y="3276720"/>
              <a:ext cx="328320" cy="103680"/>
            </a:xfrm>
            <a:custGeom>
              <a:avLst/>
              <a:gdLst/>
              <a:ahLst/>
              <a:rect l="l" t="t" r="r" b="b"/>
              <a:pathLst>
                <a:path w="192" h="96">
                  <a:moveTo>
                    <a:pt x="0" y="48"/>
                  </a:moveTo>
                  <a:lnTo>
                    <a:pt x="96" y="0"/>
                  </a:lnTo>
                  <a:lnTo>
                    <a:pt x="192" y="48"/>
                  </a:lnTo>
                  <a:lnTo>
                    <a:pt x="96" y="96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99b4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022520" y="3328200"/>
              <a:ext cx="163800" cy="15588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144"/>
                  </a:moveTo>
                  <a:lnTo>
                    <a:pt x="0" y="48"/>
                  </a:lnTo>
                  <a:lnTo>
                    <a:pt x="96" y="0"/>
                  </a:lnTo>
                  <a:lnTo>
                    <a:pt x="96" y="96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6699cc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828800" y="2666880"/>
            <a:ext cx="15876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93800"/>
                <a:tab algn="l" pos="1587600"/>
                <a:tab algn="l" pos="2381400"/>
                <a:tab algn="l" pos="3174840"/>
                <a:tab algn="l" pos="3968640"/>
                <a:tab algn="l" pos="476244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4038480"/>
            <a:ext cx="2225520" cy="87336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477120" y="3429000"/>
            <a:ext cx="1782720" cy="80028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3657600"/>
            <a:ext cx="1805040" cy="774720"/>
          </a:xfrm>
          <a:prstGeom prst="ellipse">
            <a:avLst/>
          </a:prstGeom>
          <a:gradFill rotWithShape="0">
            <a:gsLst>
              <a:gs pos="0">
                <a:srgbClr val="999900"/>
              </a:gs>
              <a:gs pos="50000">
                <a:srgbClr val="f0f018"/>
              </a:gs>
              <a:gs pos="100000">
                <a:srgbClr val="99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te di Acces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4572000" y="5257800"/>
            <a:ext cx="114480" cy="371160"/>
            <a:chOff x="4572000" y="5257800"/>
            <a:chExt cx="114480" cy="371160"/>
          </a:xfrm>
        </p:grpSpPr>
        <p:sp>
          <p:nvSpPr>
            <p:cNvPr id="349" name=""/>
            <p:cNvSpPr/>
            <p:nvPr/>
          </p:nvSpPr>
          <p:spPr>
            <a:xfrm>
              <a:off x="4590360" y="5257800"/>
              <a:ext cx="24480" cy="164880"/>
            </a:xfrm>
            <a:prstGeom prst="flowChartTermina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72000" y="5328000"/>
              <a:ext cx="114480" cy="300960"/>
            </a:xfrm>
            <a:custGeom>
              <a:avLst/>
              <a:gdLst>
                <a:gd name="textAreaLeft" fmla="*/ 3960 w 114480"/>
                <a:gd name="textAreaRight" fmla="*/ 110520 w 114480"/>
                <a:gd name="textAreaTop" fmla="*/ 3960 h 300960"/>
                <a:gd name="textAreaBottom" fmla="*/ 297000 h 300960"/>
              </a:gdLst>
              <a:ahLst/>
              <a:rect l="textAreaLeft" t="textAreaTop" r="textAreaRight" b="textAreaBottom"/>
              <a:pathLst>
                <a:path w="21600" h="56675">
                  <a:moveTo>
                    <a:pt x="2559" y="0"/>
                  </a:moveTo>
                  <a:arcTo wR="2559" hR="2559" stAng="16200000" swAng="-5400000"/>
                  <a:lnTo>
                    <a:pt x="0" y="54116"/>
                  </a:lnTo>
                  <a:arcTo wR="2559" hR="2559" stAng="10800000" swAng="-5400000"/>
                  <a:lnTo>
                    <a:pt x="19041" y="56675"/>
                  </a:lnTo>
                  <a:arcTo wR="2559" hR="2559" stAng="5400000" swAng="-5400000"/>
                  <a:lnTo>
                    <a:pt x="21600" y="2559"/>
                  </a:lnTo>
                  <a:arcTo wR="2559" hR="255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a4a4a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8136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1520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49400" y="55886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58136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1520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649400" y="556524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58136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1520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9400" y="55422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58136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1520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9400" y="551880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72720" y="5321520"/>
              <a:ext cx="111960" cy="198360"/>
            </a:xfrm>
            <a:custGeom>
              <a:avLst/>
              <a:gdLst/>
              <a:ahLst/>
              <a:rect l="l" t="t" r="r" b="b"/>
              <a:pathLst>
                <a:path w="750" h="1329">
                  <a:moveTo>
                    <a:pt x="73" y="44"/>
                  </a:moveTo>
                  <a:cubicBezTo>
                    <a:pt x="10" y="306"/>
                    <a:pt x="0" y="911"/>
                    <a:pt x="28" y="1107"/>
                  </a:cubicBezTo>
                  <a:cubicBezTo>
                    <a:pt x="54" y="1329"/>
                    <a:pt x="258" y="1311"/>
                    <a:pt x="380" y="1311"/>
                  </a:cubicBezTo>
                  <a:cubicBezTo>
                    <a:pt x="496" y="1309"/>
                    <a:pt x="712" y="1321"/>
                    <a:pt x="734" y="1101"/>
                  </a:cubicBezTo>
                  <a:cubicBezTo>
                    <a:pt x="750" y="887"/>
                    <a:pt x="746" y="415"/>
                    <a:pt x="670" y="41"/>
                  </a:cubicBezTo>
                  <a:cubicBezTo>
                    <a:pt x="596" y="3"/>
                    <a:pt x="146" y="0"/>
                    <a:pt x="7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676767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4588560" y="5615640"/>
              <a:ext cx="9360" cy="93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595040" y="5619240"/>
              <a:ext cx="5400" cy="5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605480" y="5479560"/>
              <a:ext cx="47160" cy="14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18080" y="5498640"/>
              <a:ext cx="21960" cy="104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45440" y="548280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4582440" y="548280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79560" y="5407200"/>
              <a:ext cx="99000" cy="644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589280" y="5333040"/>
              <a:ext cx="73800" cy="67680"/>
            </a:xfrm>
            <a:custGeom>
              <a:avLst/>
              <a:gdLst/>
              <a:ahLst/>
              <a:rect l="l" t="t" r="r" b="b"/>
              <a:pathLst>
                <a:path w="496" h="454">
                  <a:moveTo>
                    <a:pt x="1" y="289"/>
                  </a:moveTo>
                  <a:cubicBezTo>
                    <a:pt x="3" y="226"/>
                    <a:pt x="34" y="116"/>
                    <a:pt x="83" y="69"/>
                  </a:cubicBezTo>
                  <a:cubicBezTo>
                    <a:pt x="132" y="22"/>
                    <a:pt x="229" y="0"/>
                    <a:pt x="297" y="5"/>
                  </a:cubicBezTo>
                  <a:cubicBezTo>
                    <a:pt x="365" y="10"/>
                    <a:pt x="486" y="45"/>
                    <a:pt x="491" y="101"/>
                  </a:cubicBezTo>
                  <a:cubicBezTo>
                    <a:pt x="496" y="157"/>
                    <a:pt x="395" y="284"/>
                    <a:pt x="325" y="341"/>
                  </a:cubicBezTo>
                  <a:cubicBezTo>
                    <a:pt x="255" y="398"/>
                    <a:pt x="127" y="454"/>
                    <a:pt x="73" y="445"/>
                  </a:cubicBezTo>
                  <a:cubicBezTo>
                    <a:pt x="19" y="436"/>
                    <a:pt x="0" y="350"/>
                    <a:pt x="1" y="28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9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1480" y="5323320"/>
              <a:ext cx="7200" cy="936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9360"/>
                <a:gd name="textAreaBottom" fmla="*/ 8640 h 9360"/>
              </a:gdLst>
              <a:ahLst/>
              <a:rect l="textAreaLeft" t="textAreaTop" r="textAreaRight" b="textAreaBottom"/>
              <a:pathLst>
                <a:path w="21600" h="27771">
                  <a:moveTo>
                    <a:pt x="7200" y="0"/>
                  </a:moveTo>
                  <a:arcTo wR="7200" hR="7200" stAng="16200000" swAng="-5400000"/>
                  <a:lnTo>
                    <a:pt x="0" y="20571"/>
                  </a:lnTo>
                  <a:arcTo wR="7200" hR="7200" stAng="10800000" swAng="-5400000"/>
                  <a:lnTo>
                    <a:pt x="14400" y="27771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95760" y="5340600"/>
              <a:ext cx="57240" cy="52200"/>
            </a:xfrm>
            <a:custGeom>
              <a:avLst/>
              <a:gdLst/>
              <a:ahLst/>
              <a:rect l="l" t="t" r="r" b="b"/>
              <a:pathLst>
                <a:path w="385" h="351">
                  <a:moveTo>
                    <a:pt x="0" y="228"/>
                  </a:moveTo>
                  <a:cubicBezTo>
                    <a:pt x="0" y="179"/>
                    <a:pt x="22" y="93"/>
                    <a:pt x="59" y="56"/>
                  </a:cubicBezTo>
                  <a:cubicBezTo>
                    <a:pt x="97" y="19"/>
                    <a:pt x="173" y="0"/>
                    <a:pt x="227" y="3"/>
                  </a:cubicBezTo>
                  <a:cubicBezTo>
                    <a:pt x="280" y="5"/>
                    <a:pt x="377" y="30"/>
                    <a:pt x="381" y="72"/>
                  </a:cubicBezTo>
                  <a:cubicBezTo>
                    <a:pt x="385" y="114"/>
                    <a:pt x="307" y="210"/>
                    <a:pt x="253" y="256"/>
                  </a:cubicBezTo>
                  <a:cubicBezTo>
                    <a:pt x="199" y="302"/>
                    <a:pt x="101" y="351"/>
                    <a:pt x="59" y="346"/>
                  </a:cubicBezTo>
                  <a:cubicBezTo>
                    <a:pt x="17" y="341"/>
                    <a:pt x="0" y="275"/>
                    <a:pt x="0" y="228"/>
                  </a:cubicBez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604760" y="5352120"/>
              <a:ext cx="24840" cy="2304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01880" y="5349240"/>
              <a:ext cx="20880" cy="1836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01880" y="5345280"/>
              <a:ext cx="16200" cy="1332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82800" y="5424120"/>
              <a:ext cx="92520" cy="44280"/>
            </a:xfrm>
            <a:prstGeom prst="roundRect">
              <a:avLst>
                <a:gd name="adj" fmla="val 11722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946800">
              <a:off x="4644360" y="5491080"/>
              <a:ext cx="31320" cy="11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rot="2851200">
              <a:off x="4580280" y="5488200"/>
              <a:ext cx="25920" cy="1476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372400" y="4317120"/>
            <a:ext cx="345600" cy="462960"/>
            <a:chOff x="2372400" y="4317120"/>
            <a:chExt cx="345600" cy="462960"/>
          </a:xfrm>
        </p:grpSpPr>
        <p:sp>
          <p:nvSpPr>
            <p:cNvPr id="381" name=""/>
            <p:cNvSpPr/>
            <p:nvPr/>
          </p:nvSpPr>
          <p:spPr>
            <a:xfrm flipH="1">
              <a:off x="2440800" y="431712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440800" y="4456800"/>
              <a:ext cx="208800" cy="1839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2372400" y="4640760"/>
              <a:ext cx="277200" cy="139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4734000" y="4926600"/>
            <a:ext cx="345600" cy="463680"/>
            <a:chOff x="4734000" y="4926600"/>
            <a:chExt cx="345600" cy="463680"/>
          </a:xfrm>
        </p:grpSpPr>
        <p:sp>
          <p:nvSpPr>
            <p:cNvPr id="385" name=""/>
            <p:cNvSpPr/>
            <p:nvPr/>
          </p:nvSpPr>
          <p:spPr>
            <a:xfrm flipH="1">
              <a:off x="4802400" y="492660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03120" y="5065920"/>
              <a:ext cx="208440" cy="1843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4734000" y="5250600"/>
              <a:ext cx="277200" cy="13968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88" name=""/>
          <p:cNvGraphicFramePr/>
          <p:nvPr/>
        </p:nvGraphicFramePr>
        <p:xfrm>
          <a:off x="1905120" y="4724280"/>
          <a:ext cx="685800" cy="4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72428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"/>
          <p:cNvGraphicFramePr/>
          <p:nvPr/>
        </p:nvGraphicFramePr>
        <p:xfrm>
          <a:off x="5181480" y="5410080"/>
          <a:ext cx="685800" cy="46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81480" y="541008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2" name=""/>
          <p:cNvGrpSpPr/>
          <p:nvPr/>
        </p:nvGrpSpPr>
        <p:grpSpPr>
          <a:xfrm>
            <a:off x="5556600" y="4927680"/>
            <a:ext cx="243720" cy="512640"/>
            <a:chOff x="5556600" y="4927680"/>
            <a:chExt cx="243720" cy="512640"/>
          </a:xfrm>
        </p:grpSpPr>
        <p:sp>
          <p:nvSpPr>
            <p:cNvPr id="393" name=""/>
            <p:cNvSpPr/>
            <p:nvPr/>
          </p:nvSpPr>
          <p:spPr>
            <a:xfrm flipH="1">
              <a:off x="5556600" y="4927680"/>
              <a:ext cx="153360" cy="2307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56600" y="5158080"/>
              <a:ext cx="243720" cy="507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5646960" y="5209200"/>
              <a:ext cx="153360" cy="23112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96" name=""/>
          <p:cNvGraphicFramePr/>
          <p:nvPr/>
        </p:nvGraphicFramePr>
        <p:xfrm>
          <a:off x="3048120" y="4952880"/>
          <a:ext cx="217440" cy="30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4952880"/>
                    <a:ext cx="21744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8" name=""/>
          <p:cNvGrpSpPr/>
          <p:nvPr/>
        </p:nvGrpSpPr>
        <p:grpSpPr>
          <a:xfrm>
            <a:off x="3038760" y="4393800"/>
            <a:ext cx="276840" cy="568800"/>
            <a:chOff x="3038760" y="4393800"/>
            <a:chExt cx="276840" cy="568800"/>
          </a:xfrm>
        </p:grpSpPr>
        <p:sp>
          <p:nvSpPr>
            <p:cNvPr id="399" name=""/>
            <p:cNvSpPr/>
            <p:nvPr/>
          </p:nvSpPr>
          <p:spPr>
            <a:xfrm flipH="1">
              <a:off x="3038760" y="4393800"/>
              <a:ext cx="88200" cy="297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3038760" y="4664880"/>
              <a:ext cx="276840" cy="255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227400" y="4665240"/>
              <a:ext cx="88200" cy="29736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02" name=""/>
          <p:cNvGraphicFramePr/>
          <p:nvPr/>
        </p:nvGraphicFramePr>
        <p:xfrm>
          <a:off x="6400800" y="5257800"/>
          <a:ext cx="380880" cy="38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5257800"/>
                    <a:ext cx="38088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4" name=""/>
          <p:cNvGrpSpPr/>
          <p:nvPr/>
        </p:nvGrpSpPr>
        <p:grpSpPr>
          <a:xfrm>
            <a:off x="6063480" y="4896000"/>
            <a:ext cx="472320" cy="318600"/>
            <a:chOff x="6063480" y="4896000"/>
            <a:chExt cx="472320" cy="318600"/>
          </a:xfrm>
        </p:grpSpPr>
        <p:sp>
          <p:nvSpPr>
            <p:cNvPr id="405" name=""/>
            <p:cNvSpPr/>
            <p:nvPr/>
          </p:nvSpPr>
          <p:spPr>
            <a:xfrm>
              <a:off x="6063480" y="489600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6213240" y="4947840"/>
              <a:ext cx="17244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85680" y="494820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044560" y="4133880"/>
            <a:ext cx="472320" cy="318600"/>
            <a:chOff x="8044560" y="4133880"/>
            <a:chExt cx="472320" cy="318600"/>
          </a:xfrm>
        </p:grpSpPr>
        <p:sp>
          <p:nvSpPr>
            <p:cNvPr id="409" name=""/>
            <p:cNvSpPr/>
            <p:nvPr/>
          </p:nvSpPr>
          <p:spPr>
            <a:xfrm>
              <a:off x="8044560" y="413388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8194320" y="4185720"/>
              <a:ext cx="172440" cy="21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366760" y="4186080"/>
              <a:ext cx="150120" cy="2664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412" name=""/>
          <p:cNvGraphicFramePr/>
          <p:nvPr/>
        </p:nvGraphicFramePr>
        <p:xfrm>
          <a:off x="6934320" y="4800600"/>
          <a:ext cx="685800" cy="4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934320" y="4800600"/>
                    <a:ext cx="685800" cy="4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"/>
          <p:cNvGrpSpPr/>
          <p:nvPr/>
        </p:nvGrpSpPr>
        <p:grpSpPr>
          <a:xfrm>
            <a:off x="7230240" y="4236840"/>
            <a:ext cx="276120" cy="577440"/>
            <a:chOff x="7230240" y="4236840"/>
            <a:chExt cx="276120" cy="577440"/>
          </a:xfrm>
        </p:grpSpPr>
        <p:sp>
          <p:nvSpPr>
            <p:cNvPr id="415" name=""/>
            <p:cNvSpPr/>
            <p:nvPr/>
          </p:nvSpPr>
          <p:spPr>
            <a:xfrm flipH="1">
              <a:off x="7230240" y="4236840"/>
              <a:ext cx="149400" cy="2718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0240" y="4508640"/>
              <a:ext cx="276120" cy="338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356960" y="4542480"/>
              <a:ext cx="149400" cy="27180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8534520" y="4495680"/>
            <a:ext cx="114120" cy="371160"/>
            <a:chOff x="8534520" y="4495680"/>
            <a:chExt cx="114120" cy="371160"/>
          </a:xfrm>
        </p:grpSpPr>
        <p:sp>
          <p:nvSpPr>
            <p:cNvPr id="419" name=""/>
            <p:cNvSpPr/>
            <p:nvPr/>
          </p:nvSpPr>
          <p:spPr>
            <a:xfrm>
              <a:off x="8552880" y="4495680"/>
              <a:ext cx="24120" cy="164880"/>
            </a:xfrm>
            <a:prstGeom prst="flowChartTerminator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57575"/>
                </a:gs>
              </a:gsLst>
              <a:lin ang="108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534520" y="4565880"/>
              <a:ext cx="114120" cy="300960"/>
            </a:xfrm>
            <a:custGeom>
              <a:avLst/>
              <a:gdLst>
                <a:gd name="textAreaLeft" fmla="*/ 3960 w 114120"/>
                <a:gd name="textAreaRight" fmla="*/ 110160 w 114120"/>
                <a:gd name="textAreaTop" fmla="*/ 3960 h 300960"/>
                <a:gd name="textAreaBottom" fmla="*/ 297000 h 300960"/>
              </a:gdLst>
              <a:ahLst/>
              <a:rect l="textAreaLeft" t="textAreaTop" r="textAreaRight" b="textAreaBottom"/>
              <a:pathLst>
                <a:path w="21600" h="56853">
                  <a:moveTo>
                    <a:pt x="2559" y="0"/>
                  </a:moveTo>
                  <a:arcTo wR="2559" hR="2559" stAng="16200000" swAng="-5400000"/>
                  <a:lnTo>
                    <a:pt x="0" y="54294"/>
                  </a:lnTo>
                  <a:arcTo wR="2559" hR="2559" stAng="10800000" swAng="-5400000"/>
                  <a:lnTo>
                    <a:pt x="19041" y="56853"/>
                  </a:lnTo>
                  <a:arcTo wR="2559" hR="2559" stAng="5400000" swAng="-5400000"/>
                  <a:lnTo>
                    <a:pt x="21600" y="2559"/>
                  </a:lnTo>
                  <a:arcTo wR="2559" hR="2559" stAng="0" swAng="-5400000"/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a4a4a"/>
                </a:gs>
              </a:gsLst>
              <a:lin ang="135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54388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7772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1560" y="48265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54388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7772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611560" y="480312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4388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57772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11560" y="47800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54388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57772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11560" y="4756680"/>
              <a:ext cx="27000" cy="1728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535240" y="4559400"/>
              <a:ext cx="111600" cy="198360"/>
            </a:xfrm>
            <a:custGeom>
              <a:avLst/>
              <a:gdLst/>
              <a:ahLst/>
              <a:rect l="l" t="t" r="r" b="b"/>
              <a:pathLst>
                <a:path w="750" h="1329">
                  <a:moveTo>
                    <a:pt x="73" y="44"/>
                  </a:moveTo>
                  <a:cubicBezTo>
                    <a:pt x="10" y="306"/>
                    <a:pt x="0" y="911"/>
                    <a:pt x="28" y="1107"/>
                  </a:cubicBezTo>
                  <a:cubicBezTo>
                    <a:pt x="54" y="1329"/>
                    <a:pt x="258" y="1311"/>
                    <a:pt x="380" y="1311"/>
                  </a:cubicBezTo>
                  <a:cubicBezTo>
                    <a:pt x="496" y="1309"/>
                    <a:pt x="712" y="1321"/>
                    <a:pt x="734" y="1101"/>
                  </a:cubicBezTo>
                  <a:cubicBezTo>
                    <a:pt x="750" y="887"/>
                    <a:pt x="746" y="415"/>
                    <a:pt x="670" y="41"/>
                  </a:cubicBezTo>
                  <a:cubicBezTo>
                    <a:pt x="596" y="3"/>
                    <a:pt x="146" y="0"/>
                    <a:pt x="73" y="44"/>
                  </a:cubicBezTo>
                  <a:close/>
                </a:path>
              </a:pathLst>
            </a:custGeom>
            <a:gradFill rotWithShape="0">
              <a:gsLst>
                <a:gs pos="0">
                  <a:srgbClr val="676767"/>
                </a:gs>
                <a:gs pos="100000">
                  <a:srgbClr val="000000"/>
                </a:gs>
              </a:gsLst>
              <a:lin ang="5400000"/>
            </a:gra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8551080" y="4853520"/>
              <a:ext cx="9000" cy="936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8557560" y="4857120"/>
              <a:ext cx="5400" cy="5400"/>
            </a:xfrm>
            <a:prstGeom prst="line">
              <a:avLst/>
            </a:prstGeom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568000" y="4717440"/>
              <a:ext cx="46800" cy="140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580600" y="4736520"/>
              <a:ext cx="21960" cy="10440"/>
            </a:xfrm>
            <a:prstGeom prst="ellipse">
              <a:avLst/>
            </a:prstGeom>
            <a:gradFill rotWithShape="0">
              <a:gsLst>
                <a:gs pos="0">
                  <a:srgbClr val="7e7e7e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607600" y="472068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8544960" y="4720680"/>
              <a:ext cx="30240" cy="28080"/>
            </a:xfrm>
            <a:custGeom>
              <a:avLst/>
              <a:gdLst/>
              <a:ahLst/>
              <a:rect l="l" t="t" r="r" b="b"/>
              <a:pathLst>
                <a:path w="201" h="190">
                  <a:moveTo>
                    <a:pt x="163" y="0"/>
                  </a:moveTo>
                  <a:cubicBezTo>
                    <a:pt x="186" y="0"/>
                    <a:pt x="201" y="42"/>
                    <a:pt x="199" y="66"/>
                  </a:cubicBezTo>
                  <a:cubicBezTo>
                    <a:pt x="197" y="90"/>
                    <a:pt x="175" y="126"/>
                    <a:pt x="149" y="146"/>
                  </a:cubicBezTo>
                  <a:cubicBezTo>
                    <a:pt x="123" y="166"/>
                    <a:pt x="67" y="186"/>
                    <a:pt x="43" y="188"/>
                  </a:cubicBezTo>
                  <a:cubicBezTo>
                    <a:pt x="19" y="190"/>
                    <a:pt x="0" y="180"/>
                    <a:pt x="3" y="160"/>
                  </a:cubicBezTo>
                  <a:cubicBezTo>
                    <a:pt x="6" y="140"/>
                    <a:pt x="35" y="95"/>
                    <a:pt x="61" y="68"/>
                  </a:cubicBezTo>
                  <a:cubicBezTo>
                    <a:pt x="87" y="41"/>
                    <a:pt x="140" y="1"/>
                    <a:pt x="163" y="0"/>
                  </a:cubicBez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17640" bIns="-17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542080" y="4645080"/>
              <a:ext cx="98640" cy="64440"/>
            </a:xfrm>
            <a:prstGeom prst="roundRect">
              <a:avLst>
                <a:gd name="adj" fmla="val 125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98989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551800" y="4570920"/>
              <a:ext cx="73800" cy="67680"/>
            </a:xfrm>
            <a:custGeom>
              <a:avLst/>
              <a:gdLst/>
              <a:ahLst/>
              <a:rect l="l" t="t" r="r" b="b"/>
              <a:pathLst>
                <a:path w="496" h="454">
                  <a:moveTo>
                    <a:pt x="1" y="289"/>
                  </a:moveTo>
                  <a:cubicBezTo>
                    <a:pt x="3" y="226"/>
                    <a:pt x="34" y="116"/>
                    <a:pt x="83" y="69"/>
                  </a:cubicBezTo>
                  <a:cubicBezTo>
                    <a:pt x="132" y="22"/>
                    <a:pt x="229" y="0"/>
                    <a:pt x="297" y="5"/>
                  </a:cubicBezTo>
                  <a:cubicBezTo>
                    <a:pt x="365" y="10"/>
                    <a:pt x="486" y="45"/>
                    <a:pt x="491" y="101"/>
                  </a:cubicBezTo>
                  <a:cubicBezTo>
                    <a:pt x="496" y="157"/>
                    <a:pt x="395" y="284"/>
                    <a:pt x="325" y="341"/>
                  </a:cubicBezTo>
                  <a:cubicBezTo>
                    <a:pt x="255" y="398"/>
                    <a:pt x="127" y="454"/>
                    <a:pt x="73" y="445"/>
                  </a:cubicBezTo>
                  <a:cubicBezTo>
                    <a:pt x="19" y="436"/>
                    <a:pt x="0" y="350"/>
                    <a:pt x="1" y="28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97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1960" bIns="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603640" y="4561200"/>
              <a:ext cx="7200" cy="9360"/>
            </a:xfrm>
            <a:custGeom>
              <a:avLst/>
              <a:gdLst>
                <a:gd name="textAreaLeft" fmla="*/ 720 w 7200"/>
                <a:gd name="textAreaRight" fmla="*/ 6480 w 7200"/>
                <a:gd name="textAreaTop" fmla="*/ 720 h 9360"/>
                <a:gd name="textAreaBottom" fmla="*/ 8640 h 9360"/>
              </a:gdLst>
              <a:ahLst/>
              <a:rect l="textAreaLeft" t="textAreaTop" r="textAreaRight" b="textAreaBottom"/>
              <a:pathLst>
                <a:path w="21600" h="27771">
                  <a:moveTo>
                    <a:pt x="7200" y="0"/>
                  </a:moveTo>
                  <a:arcTo wR="7200" hR="7200" stAng="16200000" swAng="-5400000"/>
                  <a:lnTo>
                    <a:pt x="0" y="20571"/>
                  </a:lnTo>
                  <a:arcTo wR="7200" hR="7200" stAng="10800000" swAng="-5400000"/>
                  <a:lnTo>
                    <a:pt x="14400" y="27771"/>
                  </a:lnTo>
                  <a:arcTo wR="7200" hR="7200" stAng="5400000" swAng="-5400000"/>
                  <a:lnTo>
                    <a:pt x="21600" y="7200"/>
                  </a:lnTo>
                  <a:arcTo wR="7200" hR="72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990000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557920" y="4578480"/>
              <a:ext cx="57240" cy="52200"/>
            </a:xfrm>
            <a:custGeom>
              <a:avLst/>
              <a:gdLst/>
              <a:ahLst/>
              <a:rect l="l" t="t" r="r" b="b"/>
              <a:pathLst>
                <a:path w="385" h="351">
                  <a:moveTo>
                    <a:pt x="0" y="228"/>
                  </a:moveTo>
                  <a:cubicBezTo>
                    <a:pt x="0" y="179"/>
                    <a:pt x="22" y="93"/>
                    <a:pt x="59" y="56"/>
                  </a:cubicBezTo>
                  <a:cubicBezTo>
                    <a:pt x="97" y="19"/>
                    <a:pt x="173" y="0"/>
                    <a:pt x="227" y="3"/>
                  </a:cubicBezTo>
                  <a:cubicBezTo>
                    <a:pt x="280" y="5"/>
                    <a:pt x="377" y="30"/>
                    <a:pt x="381" y="72"/>
                  </a:cubicBezTo>
                  <a:cubicBezTo>
                    <a:pt x="385" y="114"/>
                    <a:pt x="307" y="210"/>
                    <a:pt x="253" y="256"/>
                  </a:cubicBezTo>
                  <a:cubicBezTo>
                    <a:pt x="199" y="302"/>
                    <a:pt x="101" y="351"/>
                    <a:pt x="59" y="346"/>
                  </a:cubicBezTo>
                  <a:cubicBezTo>
                    <a:pt x="17" y="341"/>
                    <a:pt x="0" y="275"/>
                    <a:pt x="0" y="228"/>
                  </a:cubicBezTo>
                  <a:close/>
                </a:path>
              </a:pathLst>
            </a:custGeom>
            <a:solidFill>
              <a:srgbClr val="4a4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567280" y="4590000"/>
              <a:ext cx="24840" cy="2304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2680" bIns="-22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564400" y="4587120"/>
              <a:ext cx="20880" cy="1836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564400" y="4583160"/>
              <a:ext cx="16200" cy="13320"/>
            </a:xfrm>
            <a:custGeom>
              <a:avLst/>
              <a:gdLst/>
              <a:ahLst/>
              <a:rect l="l" t="t" r="r" b="b"/>
              <a:pathLst>
                <a:path w="168" h="156">
                  <a:moveTo>
                    <a:pt x="0" y="156"/>
                  </a:moveTo>
                  <a:cubicBezTo>
                    <a:pt x="32" y="76"/>
                    <a:pt x="102" y="24"/>
                    <a:pt x="168" y="0"/>
                  </a:cubicBezTo>
                </a:path>
              </a:pathLst>
            </a:custGeom>
            <a:solidFill>
              <a:srgbClr val="4a4a4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545320" y="4662000"/>
              <a:ext cx="92160" cy="44280"/>
            </a:xfrm>
            <a:prstGeom prst="roundRect">
              <a:avLst>
                <a:gd name="adj" fmla="val 11722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46800">
              <a:off x="8606520" y="4728960"/>
              <a:ext cx="30960" cy="11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rot="2851200">
              <a:off x="8542800" y="4726080"/>
              <a:ext cx="25920" cy="1476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3333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Vincoli dell’ambiente mobil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tilità del dispos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ate risorse di calcolo (CPU, Memoria,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 picc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nomia energetica limit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ilità delle riso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unicazione wir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o banda che nelle comunicazioni w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ore affidabilità (errori di trasmissione, perdite di pacchetti, disconnession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à della comunicazione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giori c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Vincoli dell’ambiente mobile (2)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unto di attacco alla rete cambia quando l’utente si spo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erca dinamica del servizio più vic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progettare algoritmi distribuiti non si può più fare affidamento sulla topologia fis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centro di attività e il carico del sistema cambiano continu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Esempi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2895480"/>
            <a:ext cx="1904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828800" y="1828800"/>
            <a:ext cx="7010280" cy="5257800"/>
            <a:chOff x="1828800" y="1828800"/>
            <a:chExt cx="7010280" cy="5257800"/>
          </a:xfrm>
        </p:grpSpPr>
        <p:grpSp>
          <p:nvGrpSpPr>
            <p:cNvPr id="457" name=""/>
            <p:cNvGrpSpPr/>
            <p:nvPr/>
          </p:nvGrpSpPr>
          <p:grpSpPr>
            <a:xfrm>
              <a:off x="1828800" y="1828800"/>
              <a:ext cx="7010280" cy="5257800"/>
              <a:chOff x="1828800" y="1828800"/>
              <a:chExt cx="7010280" cy="5257800"/>
            </a:xfrm>
          </p:grpSpPr>
          <p:grpSp>
            <p:nvGrpSpPr>
              <p:cNvPr id="458" name=""/>
              <p:cNvGrpSpPr/>
              <p:nvPr/>
            </p:nvGrpSpPr>
            <p:grpSpPr>
              <a:xfrm>
                <a:off x="1828800" y="1828800"/>
                <a:ext cx="7010280" cy="5257800"/>
                <a:chOff x="1828800" y="1828800"/>
                <a:chExt cx="7010280" cy="5257800"/>
              </a:xfrm>
            </p:grpSpPr>
            <p:pic>
              <p:nvPicPr>
                <p:cNvPr id="459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828800" y="1828800"/>
                  <a:ext cx="7010280" cy="5257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0" name=""/>
                <p:cNvSpPr/>
                <p:nvPr/>
              </p:nvSpPr>
              <p:spPr>
                <a:xfrm>
                  <a:off x="1828800" y="1905120"/>
                  <a:ext cx="4114800" cy="9144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095880" y="3352680"/>
                <a:ext cx="914400" cy="152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5334120" y="2895480"/>
              <a:ext cx="1981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Alcuni numeri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30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lmari in uso nel m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1.3 Miliard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foni cellulari in uso nel m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4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rt phone venduti nel 2003 in Europa (previsi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8,5% -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scita della quota di mercato relativa agli smart phone (all’interno del mercato dei telefoni) prevista per il periodo 2003 – 2007 negli Stati Un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6,9 – 17,1 Mil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0000"/>
              </a:lnSpc>
              <a:spcAft>
                <a:spcPts val="1137"/>
              </a:spcAft>
              <a:buClr>
                <a:srgbClr val="336699"/>
              </a:buClr>
              <a:buSzPct val="7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mento delle vendite di Palmari previsto per il periodo 2003 – 2007 negli Stati Uni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2640" y="6705720"/>
            <a:ext cx="39877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Aft>
                <a:spcPts val="11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Fon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 Mincho Light J"/>
              </a:rPr>
              <a:t>: </a:t>
            </a:r>
            <a:r>
              <a:rPr b="1" lang="en-US" sz="1400" spc="-1" strike="noStrike">
                <a:solidFill>
                  <a:srgbClr val="336699"/>
                </a:solidFill>
                <a:latin typeface="Arial"/>
                <a:ea typeface="HG Mincho Light J"/>
              </a:rPr>
              <a:t>IEEE Computer, Settembre 200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Nel futuro immediato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reless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o a Internet </a:t>
            </a: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nywhere, anytime, any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hoto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26845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In prospettiva …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vasive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ialized elements of hardware and software, connected by wires, radio waves and infrared, will so ubiquitous that no one will notice their presence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spcAft>
                <a:spcPts val="1137"/>
              </a:spcAft>
              <a:buNone/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rk Weiser, 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an" descr=""/>
          <p:cNvPicPr/>
          <p:nvPr/>
        </p:nvPicPr>
        <p:blipFill>
          <a:blip r:embed="rId1"/>
          <a:stretch/>
        </p:blipFill>
        <p:spPr>
          <a:xfrm>
            <a:off x="5029200" y="3048120"/>
            <a:ext cx="38941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Wireless Internet è già realtà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-15120" y="4013280"/>
            <a:ext cx="171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Numero di Utent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2480" y="2286000"/>
            <a:ext cx="684864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71560" y="3048120"/>
            <a:ext cx="668520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71560" y="3809880"/>
            <a:ext cx="668520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71560" y="4572000"/>
            <a:ext cx="6685200" cy="76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771560" y="5334120"/>
            <a:ext cx="6685200" cy="761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acce8"/>
              </a:gs>
            </a:gsLst>
            <a:lin ang="108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71560" y="2362320"/>
            <a:ext cx="6602400" cy="1193760"/>
          </a:xfrm>
          <a:custGeom>
            <a:avLst/>
            <a:gdLst/>
            <a:ahLst/>
            <a:rect l="l" t="t" r="r" b="b"/>
            <a:pathLst>
              <a:path w="3744" h="768">
                <a:moveTo>
                  <a:pt x="0" y="768"/>
                </a:moveTo>
                <a:cubicBezTo>
                  <a:pt x="1072" y="552"/>
                  <a:pt x="2224" y="120"/>
                  <a:pt x="3744" y="0"/>
                </a:cubicBezTo>
              </a:path>
            </a:pathLst>
          </a:custGeom>
          <a:noFill/>
          <a:ln w="63360">
            <a:solidFill>
              <a:srgbClr val="66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71560" y="2162160"/>
            <a:ext cx="6559560" cy="3591000"/>
          </a:xfrm>
          <a:custGeom>
            <a:avLst/>
            <a:gdLst/>
            <a:ahLst/>
            <a:rect l="l" t="t" r="r" b="b"/>
            <a:pathLst>
              <a:path w="3815" h="2262">
                <a:moveTo>
                  <a:pt x="0" y="2262"/>
                </a:moveTo>
                <a:cubicBezTo>
                  <a:pt x="698" y="2126"/>
                  <a:pt x="1459" y="1922"/>
                  <a:pt x="2077" y="1494"/>
                </a:cubicBezTo>
                <a:cubicBezTo>
                  <a:pt x="2514" y="1199"/>
                  <a:pt x="2615" y="1122"/>
                  <a:pt x="2993" y="867"/>
                </a:cubicBezTo>
                <a:cubicBezTo>
                  <a:pt x="3274" y="672"/>
                  <a:pt x="3626" y="278"/>
                  <a:pt x="3815" y="0"/>
                </a:cubicBezTo>
              </a:path>
            </a:pathLst>
          </a:custGeom>
          <a:noFill/>
          <a:ln w="63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71560" y="6095880"/>
            <a:ext cx="6737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7715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5160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1560" y="6095880"/>
            <a:ext cx="744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2576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0006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57640" y="60958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7433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49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43360" y="6095880"/>
            <a:ext cx="74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22944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97068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229440" y="6095880"/>
            <a:ext cx="74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71372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8456760" y="6095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13720" y="6095880"/>
            <a:ext cx="743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82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06600" y="2511720"/>
            <a:ext cx="570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30280" y="3992760"/>
            <a:ext cx="67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209360" y="4156560"/>
            <a:ext cx="7736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71560" y="2355840"/>
            <a:ext cx="6578640" cy="3625920"/>
          </a:xfrm>
          <a:custGeom>
            <a:avLst/>
            <a:gdLst/>
            <a:ahLst/>
            <a:rect l="l" t="t" r="r" b="b"/>
            <a:pathLst>
              <a:path w="3848" h="2284">
                <a:moveTo>
                  <a:pt x="0" y="2284"/>
                </a:moveTo>
                <a:cubicBezTo>
                  <a:pt x="1148" y="2022"/>
                  <a:pt x="3170" y="1722"/>
                  <a:pt x="3848" y="0"/>
                </a:cubicBezTo>
              </a:path>
            </a:pathLst>
          </a:custGeom>
          <a:noFill/>
          <a:ln w="6336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38720" y="4717080"/>
            <a:ext cx="5597640" cy="1323000"/>
            <a:chOff x="4338720" y="4717080"/>
            <a:chExt cx="5597640" cy="1323000"/>
          </a:xfrm>
        </p:grpSpPr>
        <p:sp>
          <p:nvSpPr>
            <p:cNvPr id="153" name=""/>
            <p:cNvSpPr/>
            <p:nvPr/>
          </p:nvSpPr>
          <p:spPr>
            <a:xfrm>
              <a:off x="4338720" y="4777200"/>
              <a:ext cx="3917880" cy="1262880"/>
            </a:xfrm>
            <a:custGeom>
              <a:avLst/>
              <a:gdLst/>
              <a:ahLst/>
              <a:rect l="l" t="t" r="r" b="b"/>
              <a:pathLst>
                <a:path w="2821" h="928">
                  <a:moveTo>
                    <a:pt x="0" y="928"/>
                  </a:moveTo>
                  <a:cubicBezTo>
                    <a:pt x="441" y="907"/>
                    <a:pt x="882" y="886"/>
                    <a:pt x="1259" y="811"/>
                  </a:cubicBezTo>
                  <a:cubicBezTo>
                    <a:pt x="1636" y="736"/>
                    <a:pt x="2005" y="614"/>
                    <a:pt x="2265" y="479"/>
                  </a:cubicBezTo>
                  <a:cubicBezTo>
                    <a:pt x="2525" y="344"/>
                    <a:pt x="2728" y="81"/>
                    <a:pt x="2821" y="0"/>
                  </a:cubicBezTo>
                </a:path>
              </a:pathLst>
            </a:custGeom>
            <a:noFill/>
            <a:ln w="76320">
              <a:solidFill>
                <a:srgbClr val="ff5d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640" rIns="35640" tIns="35640" bIns="35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21400" y="4717080"/>
              <a:ext cx="161496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500" spc="-1" strike="noStrike">
                  <a:solidFill>
                    <a:srgbClr val="000000"/>
                  </a:solidFill>
                  <a:latin typeface="Arial"/>
                </a:rPr>
                <a:t>Wireless Interne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895680" y="6945480"/>
            <a:ext cx="167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Ericcss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75248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Modalità di Accesso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57400" y="1752480"/>
            <a:ext cx="6934320" cy="1096920"/>
          </a:xfrm>
          <a:prstGeom prst="rect">
            <a:avLst/>
          </a:prstGeom>
          <a:gradFill rotWithShape="0">
            <a:gsLst>
              <a:gs pos="0">
                <a:srgbClr val="ff3300"/>
              </a:gs>
              <a:gs pos="50000">
                <a:srgbClr val="ffffff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057400" y="2895480"/>
            <a:ext cx="1006560" cy="3469680"/>
            <a:chOff x="2057400" y="2895480"/>
            <a:chExt cx="1006560" cy="3469680"/>
          </a:xfrm>
        </p:grpSpPr>
        <p:sp>
          <p:nvSpPr>
            <p:cNvPr id="160" name=""/>
            <p:cNvSpPr/>
            <p:nvPr/>
          </p:nvSpPr>
          <p:spPr>
            <a:xfrm>
              <a:off x="2058120" y="6058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Ca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57400" y="2895480"/>
              <a:ext cx="1006560" cy="1463760"/>
            </a:xfrm>
            <a:prstGeom prst="rect">
              <a:avLst/>
            </a:prstGeom>
            <a:gradFill rotWithShape="0">
              <a:gsLst>
                <a:gs pos="0">
                  <a:srgbClr val="008000"/>
                </a:gs>
                <a:gs pos="50000">
                  <a:srgbClr val="ffffff"/>
                </a:gs>
                <a:gs pos="100000">
                  <a:srgbClr val="008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Line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Telefonica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ISDN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xDS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4114800" y="2895480"/>
            <a:ext cx="1006560" cy="3469680"/>
            <a:chOff x="4114800" y="2895480"/>
            <a:chExt cx="1006560" cy="3469680"/>
          </a:xfrm>
        </p:grpSpPr>
        <p:sp>
          <p:nvSpPr>
            <p:cNvPr id="163" name=""/>
            <p:cNvSpPr/>
            <p:nvPr/>
          </p:nvSpPr>
          <p:spPr>
            <a:xfrm>
              <a:off x="4191120" y="6058080"/>
              <a:ext cx="67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Uffi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14800" y="2895480"/>
              <a:ext cx="1006560" cy="146376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5000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Ethern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094080" y="2895480"/>
            <a:ext cx="1232280" cy="4146840"/>
            <a:chOff x="6094080" y="2895480"/>
            <a:chExt cx="1232280" cy="4146840"/>
          </a:xfrm>
        </p:grpSpPr>
        <p:sp>
          <p:nvSpPr>
            <p:cNvPr id="166" name=""/>
            <p:cNvSpPr/>
            <p:nvPr/>
          </p:nvSpPr>
          <p:spPr>
            <a:xfrm>
              <a:off x="6094080" y="6095880"/>
              <a:ext cx="1232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Wi-Fi hotspo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Uffic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Cas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172200" y="2895480"/>
              <a:ext cx="1006560" cy="1447920"/>
              <a:chOff x="6172200" y="2895480"/>
              <a:chExt cx="1006560" cy="1447920"/>
            </a:xfrm>
          </p:grpSpPr>
          <p:sp>
            <p:nvSpPr>
              <p:cNvPr id="168" name=""/>
              <p:cNvSpPr/>
              <p:nvPr/>
            </p:nvSpPr>
            <p:spPr>
              <a:xfrm>
                <a:off x="6172200" y="2895480"/>
                <a:ext cx="1006560" cy="54936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Wi-F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629400" y="3505320"/>
                <a:ext cx="152280" cy="366480"/>
                <a:chOff x="6629400" y="3505320"/>
                <a:chExt cx="152280" cy="3664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6629400" y="3505320"/>
                  <a:ext cx="0" cy="21996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629400" y="3651480"/>
                  <a:ext cx="152280" cy="7308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781680" y="3651840"/>
                  <a:ext cx="0" cy="219960"/>
                </a:xfrm>
                <a:prstGeom prst="line">
                  <a:avLst/>
                </a:prstGeom>
                <a:ln w="19080">
                  <a:solidFill>
                    <a:srgbClr val="ff9933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6172200" y="3886200"/>
                <a:ext cx="1006560" cy="457200"/>
              </a:xfrm>
              <a:prstGeom prst="rect">
                <a:avLst/>
              </a:prstGeom>
              <a:gradFill rotWithShape="0">
                <a:gsLst>
                  <a:gs pos="0">
                    <a:srgbClr val="ff9933"/>
                  </a:gs>
                  <a:gs pos="50000">
                    <a:srgbClr val="ffffff"/>
                  </a:gs>
                  <a:gs pos="100000">
                    <a:srgbClr val="ff993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Wi-F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2057400" y="4389480"/>
            <a:ext cx="6950160" cy="1493640"/>
            <a:chOff x="2057400" y="4389480"/>
            <a:chExt cx="6950160" cy="1493640"/>
          </a:xfrm>
        </p:grpSpPr>
        <p:sp>
          <p:nvSpPr>
            <p:cNvPr id="175" name=""/>
            <p:cNvSpPr/>
            <p:nvPr/>
          </p:nvSpPr>
          <p:spPr>
            <a:xfrm>
              <a:off x="2057400" y="438948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468520" y="4938840"/>
              <a:ext cx="182160" cy="364680"/>
              <a:chOff x="2468520" y="4938840"/>
              <a:chExt cx="182160" cy="364680"/>
            </a:xfrm>
          </p:grpSpPr>
          <p:sp>
            <p:nvSpPr>
              <p:cNvPr id="177" name=""/>
              <p:cNvSpPr/>
              <p:nvPr/>
            </p:nvSpPr>
            <p:spPr>
              <a:xfrm>
                <a:off x="246852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46852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5068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7400" y="532116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148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487760" y="4938840"/>
              <a:ext cx="182160" cy="364680"/>
              <a:chOff x="4487760" y="4938840"/>
              <a:chExt cx="182160" cy="364680"/>
            </a:xfrm>
          </p:grpSpPr>
          <p:sp>
            <p:nvSpPr>
              <p:cNvPr id="183" name=""/>
              <p:cNvSpPr/>
              <p:nvPr/>
            </p:nvSpPr>
            <p:spPr>
              <a:xfrm>
                <a:off x="448776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448776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6992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4114800" y="53341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583320" y="4938840"/>
              <a:ext cx="182160" cy="364680"/>
              <a:chOff x="6583320" y="4938840"/>
              <a:chExt cx="182160" cy="364680"/>
            </a:xfrm>
          </p:grpSpPr>
          <p:sp>
            <p:nvSpPr>
              <p:cNvPr id="188" name=""/>
              <p:cNvSpPr/>
              <p:nvPr/>
            </p:nvSpPr>
            <p:spPr>
              <a:xfrm>
                <a:off x="6583320" y="49388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6583320" y="508428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65480" y="5084640"/>
                <a:ext cx="0" cy="2188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172200" y="5321160"/>
              <a:ext cx="1006560" cy="5493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01000" y="44197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8458200" y="4952880"/>
              <a:ext cx="182160" cy="365040"/>
              <a:chOff x="8458200" y="4952880"/>
              <a:chExt cx="182160" cy="365040"/>
            </a:xfrm>
          </p:grpSpPr>
          <p:sp>
            <p:nvSpPr>
              <p:cNvPr id="195" name=""/>
              <p:cNvSpPr/>
              <p:nvPr/>
            </p:nvSpPr>
            <p:spPr>
              <a:xfrm>
                <a:off x="8458200" y="4952880"/>
                <a:ext cx="0" cy="21924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head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8458200" y="5098320"/>
                <a:ext cx="182160" cy="7308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640360" y="5098680"/>
                <a:ext cx="0" cy="219240"/>
              </a:xfrm>
              <a:prstGeom prst="line">
                <a:avLst/>
              </a:prstGeom>
              <a:ln w="19080">
                <a:solidFill>
                  <a:srgbClr val="3333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8001000" y="5334120"/>
              <a:ext cx="1006560" cy="54900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Bluetoo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846560" y="2895480"/>
            <a:ext cx="1252080" cy="3507480"/>
            <a:chOff x="7846560" y="2895480"/>
            <a:chExt cx="1252080" cy="3507480"/>
          </a:xfrm>
        </p:grpSpPr>
        <p:grpSp>
          <p:nvGrpSpPr>
            <p:cNvPr id="200" name=""/>
            <p:cNvGrpSpPr/>
            <p:nvPr/>
          </p:nvGrpSpPr>
          <p:grpSpPr>
            <a:xfrm>
              <a:off x="8001000" y="2895480"/>
              <a:ext cx="1006560" cy="1447920"/>
              <a:chOff x="8001000" y="2895480"/>
              <a:chExt cx="1006560" cy="1447920"/>
            </a:xfrm>
          </p:grpSpPr>
          <p:sp>
            <p:nvSpPr>
              <p:cNvPr id="201" name=""/>
              <p:cNvSpPr/>
              <p:nvPr/>
            </p:nvSpPr>
            <p:spPr>
              <a:xfrm>
                <a:off x="8001000" y="2895480"/>
                <a:ext cx="1006560" cy="54936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GP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UM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2" name=""/>
              <p:cNvGrpSpPr/>
              <p:nvPr/>
            </p:nvGrpSpPr>
            <p:grpSpPr>
              <a:xfrm>
                <a:off x="8458200" y="3505320"/>
                <a:ext cx="182160" cy="366480"/>
                <a:chOff x="8458200" y="3505320"/>
                <a:chExt cx="182160" cy="3664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8458200" y="3505320"/>
                  <a:ext cx="0" cy="21996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  <a:head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flipV="1">
                  <a:off x="8458200" y="3651480"/>
                  <a:ext cx="182160" cy="7308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640360" y="3651840"/>
                  <a:ext cx="0" cy="219960"/>
                </a:xfrm>
                <a:prstGeom prst="line">
                  <a:avLst/>
                </a:prstGeom>
                <a:ln w="19080">
                  <a:solidFill>
                    <a:srgbClr val="9933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8001000" y="3886200"/>
                <a:ext cx="1006560" cy="457200"/>
              </a:xfrm>
              <a:prstGeom prst="rect">
                <a:avLst/>
              </a:prstGeom>
              <a:gradFill rotWithShape="0">
                <a:gsLst>
                  <a:gs pos="0">
                    <a:srgbClr val="9933ff"/>
                  </a:gs>
                  <a:gs pos="50000">
                    <a:srgbClr val="ffffff"/>
                  </a:gs>
                  <a:gs pos="100000">
                    <a:srgbClr val="99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GPRS,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Arial"/>
                  </a:rPr>
                  <a:t>UM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846560" y="6095880"/>
              <a:ext cx="125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In movi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8282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Rete Cellulare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87631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onibilità del servizio: quasi ovun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o anche in movimen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treno, auto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bilità su scala geogra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Velocità di trasmissione: da qualc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ps a 2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30000"/>
              </a:lnSpc>
              <a:spcAft>
                <a:spcPts val="1426"/>
              </a:spcAft>
              <a:buClr>
                <a:srgbClr val="336699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j0234762" descr=""/>
          <p:cNvPicPr/>
          <p:nvPr/>
        </p:nvPicPr>
        <p:blipFill>
          <a:blip r:embed="rId1"/>
          <a:stretch/>
        </p:blipFill>
        <p:spPr>
          <a:xfrm>
            <a:off x="7620120" y="4572000"/>
            <a:ext cx="1776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iuseppe Anastasi</cp:lastModifiedBy>
  <dcterms:modified xsi:type="dcterms:W3CDTF">2003-11-13T15:12:17Z</dcterms:modified>
  <cp:revision>254</cp:revision>
  <dc:subject/>
  <dc:title>Power-Saving Strategies for  Mobile-Internet Access</dc:title>
</cp:coreProperties>
</file>