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1210-4FED-431D-ABF5-BE1B0B4FD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0BD0-2705-4849-B2E7-FCA4D2EEF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4C96-4D8F-4768-B4A9-C60837EAC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032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200" y="19807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032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200" y="4155120"/>
            <a:ext cx="25567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4BA9-9381-4B71-9777-F59AC686DB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C083-B715-42EF-8D3E-C4C135C00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4468-153A-4BAD-A088-63728081F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0F37-8FC6-412B-A30C-9085445BD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7A2B-54D2-4967-AF90-DAE49BF06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2840" y="417600"/>
            <a:ext cx="773748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8E40-4A18-4D1E-B585-D706379A7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2A7D-A614-4D80-A067-1DB3064B6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41551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75B2-BDC2-4CD8-B0FE-7C67EC4B4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980720"/>
            <a:ext cx="387468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55120"/>
            <a:ext cx="79405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4633-181D-4A6D-9C22-6E8C1F8B5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940520" cy="4162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160"/>
            <a:ext cx="7772400" cy="299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E695-113F-4111-B99E-CFE9E71B6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2960" y="67428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Combining Abstract Interpretation  and Model Checking for Analysing 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Security Properties of Java Bytecode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490480" y="2362320"/>
            <a:ext cx="419580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nzia Bernarde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coletta De Franc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0200" y="4700520"/>
            <a:ext cx="449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ipartimento di Ingegneria dell’Inform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Università di 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0120" y="259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formation Flow in 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860400" y="1280520"/>
            <a:ext cx="774396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m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tructured languages the scope of an implicit  flow coinc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conditional or iterative command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unstructured langauges jumps to any program point are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the stack may be manipulated in different ways by the branches of a branching instruction: they can perform a different number of pop and push operations, and with a different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9F82-0E7D-4097-81D8-554A1C861D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ity by Abstract Interpretation + Model Checking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015920" y="1517760"/>
            <a:ext cx="724860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Abstract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domain of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ecute the program operating over abstract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emantics = structure representing all executions in a finite wa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l check the abstract semantics against temporal logic formulae expressing the expecte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843E-88D8-4F44-BB3F-3F61505D01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n Abstract Interpretation Approach Based on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549360" y="1770120"/>
            <a:ext cx="79326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 instrumented semantics maintaining also the security level of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 semantics forgetting the actual values and maintaining the security level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ctness of th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93A2-7914-444A-AEF4-513CEA2EF9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2840" y="222120"/>
            <a:ext cx="7737480" cy="749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crete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561960" y="1322280"/>
            <a:ext cx="77360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 instrumented semantics wh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dles values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enriched with a security lev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During the execution of a program, the security level of a value indicates the least upper bound of the security levels of the information flows, both explicit and implicit, on which  the value depe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xecutes instructions under a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security environmen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 During the execution, the security environment represents the least upper bound of the security levels of the open implicit flows. The security environment  is possibly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up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y a branching instruction and can be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downgrade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hen an implicit flow termin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(P) : concrete transition system f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49F7-D16B-4705-B66C-C3FD1A008F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90960" y="1501920"/>
            <a:ext cx="80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semantics uses the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control flow graph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f the program  to handle implicit flow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8720" y="5189400"/>
            <a:ext cx="801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implicit flow of  an if or ret instruction  at address i terminates at the instruction with address ipd(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20960" y="3308400"/>
            <a:ext cx="460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=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mmediate postdominator of 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the first node belonging to all paths from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24080" y="1860480"/>
            <a:ext cx="53820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800" y="2763720"/>
            <a:ext cx="53820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68360" y="3897360"/>
            <a:ext cx="538200" cy="42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1440" y="2765520"/>
            <a:ext cx="538200" cy="42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2"/>
            <a:endCxn id="81" idx="0"/>
          </p:cNvCxnSpPr>
          <p:nvPr/>
        </p:nvCxnSpPr>
        <p:spPr>
          <a:xfrm flipH="1">
            <a:off x="766080" y="2298240"/>
            <a:ext cx="827640" cy="45180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2"/>
            <a:endCxn id="83" idx="0"/>
          </p:cNvCxnSpPr>
          <p:nvPr/>
        </p:nvCxnSpPr>
        <p:spPr>
          <a:xfrm>
            <a:off x="1593360" y="2298240"/>
            <a:ext cx="1018440" cy="45324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1" idx="2"/>
            <a:endCxn id="82" idx="0"/>
          </p:cNvCxnSpPr>
          <p:nvPr/>
        </p:nvCxnSpPr>
        <p:spPr>
          <a:xfrm>
            <a:off x="766440" y="3201840"/>
            <a:ext cx="872280" cy="68184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3" idx="1"/>
            <a:endCxn id="81" idx="3"/>
          </p:cNvCxnSpPr>
          <p:nvPr/>
        </p:nvCxnSpPr>
        <p:spPr>
          <a:xfrm flipH="1" flipV="1">
            <a:off x="1049040" y="2975760"/>
            <a:ext cx="1278720" cy="252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3" idx="2"/>
            <a:endCxn id="82" idx="0"/>
          </p:cNvCxnSpPr>
          <p:nvPr/>
        </p:nvCxnSpPr>
        <p:spPr>
          <a:xfrm flipH="1">
            <a:off x="1637640" y="3203280"/>
            <a:ext cx="973800" cy="680040"/>
          </a:xfrm>
          <a:prstGeom prst="straightConnector1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30280" y="1849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91176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550880" y="1371600"/>
            <a:ext cx="15840" cy="4906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8360" y="4348080"/>
            <a:ext cx="15840" cy="4906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222120"/>
            <a:ext cx="7737480" cy="749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trol Flow Graph and ipd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BCC4-B239-42A4-A269-7C182A767C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Domains of the concrete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741240" y="1833480"/>
            <a:ext cx="74278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urity leve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{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&lt;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stan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V         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k, k’, ..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A          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, j,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Value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V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1" lang="en-US" sz="20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 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Addresse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      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 i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Memori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var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( </a:t>
            </a:r>
            <a:r>
              <a:rPr b="1" lang="en-US" sz="20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, M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rete Stack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*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, S’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s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EFF2-E597-48BE-AB35-EE6E95B162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4080" y="1360440"/>
            <a:ext cx="74278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TATES          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 A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 ( A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{ 0 }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C, M, S, IPD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nd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H, holds the address wher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high implicit flow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L, holds 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ncrete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2629080" y="4359240"/>
            <a:ext cx="201600" cy="1470240"/>
          </a:xfrm>
          <a:custGeom>
            <a:avLst/>
            <a:gdLst>
              <a:gd name="textAreaLeft" fmla="*/ 128880 w 201600"/>
              <a:gd name="textAreaRight" fmla="*/ 201960 w 201600"/>
              <a:gd name="textAreaTop" fmla="*/ 38160 h 1470240"/>
              <a:gd name="textAreaBottom" fmla="*/ 143208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7023-E70A-4B1F-8809-3EA7F007F2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81040" y="1523880"/>
            <a:ext cx="79995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PC]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 x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[x] = (k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  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S, IPD &gt;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+1, M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 ·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P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454A-8585-4F3F-A890-EBB39F786D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81040" y="1523880"/>
            <a:ext cx="79995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PC]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x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PD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(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 ·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PD 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+1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[ (k,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)/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],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P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A8AF-A333-4122-B9EB-B3801A4C6A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81040" y="1523880"/>
            <a:ext cx="7427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S, PC 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 , M, S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ABAD-4B78-4805-9314-D3F63E5C95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231920"/>
            <a:ext cx="748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gram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attice of security levels 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cc3300"/>
                </a:solidFill>
                <a:latin typeface="Moder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variable of P is assigned a security level in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: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formation at a   given security level does not flow to l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00" y="23796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ity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3" idx="3"/>
            <a:endCxn id="43" idx="3"/>
          </p:cNvCxnSpPr>
          <p:nvPr/>
        </p:nvCxnSpPr>
        <p:spPr>
          <a:xfrm>
            <a:off x="8384760" y="3103200"/>
            <a:ext cx="1080" cy="1080"/>
          </a:xfrm>
          <a:prstGeom prst="straightConnector1">
            <a:avLst/>
          </a:prstGeom>
          <a:ln w="28440">
            <a:solidFill>
              <a:srgbClr val="cc3300"/>
            </a:solidFill>
            <a:miter/>
          </a:ln>
        </p:spPr>
      </p:cxnSp>
      <p:cxnSp>
        <p:nvCxnSpPr>
          <p:cNvPr id="46" name=""/>
          <p:cNvCxnSpPr/>
          <p:nvPr/>
        </p:nvCxnSpPr>
        <p:spPr>
          <a:xfrm>
            <a:off x="3317400" y="3452400"/>
            <a:ext cx="1080" cy="1080"/>
          </a:xfrm>
          <a:prstGeom prst="straightConnector1">
            <a:avLst/>
          </a:prstGeom>
          <a:ln w="28440">
            <a:solidFill>
              <a:srgbClr val="cc33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1DCB-383A-4B5B-B4FF-0B4CE10C1C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00200" y="1262160"/>
            <a:ext cx="7840440" cy="47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PC]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j 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(0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· S, IPD &gt;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+1,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up(M),up(S), IPD’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(PC)  i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L  and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H, (an high implicit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’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beg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D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(M) upgrades the value of the variables assigned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ope of the implicit flow beginning at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(S) upgrades all elements in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8000" y="24408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ransition relation rul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488960" y="35416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2469-CAE0-482B-B6D9-5C41353A78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7920" y="1293840"/>
            <a:ext cx="742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consta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V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cript MT Bold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{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 }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ecurity levels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cript MT Bold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Value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V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: V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  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Addresse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Memorie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: var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tack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: (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)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*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Environments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E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E 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=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States: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L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M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S</a:t>
            </a:r>
            <a:r>
              <a:rPr b="1" lang="en-US" sz="2400" spc="-1" strike="noStrike" baseline="30000">
                <a:solidFill>
                  <a:srgbClr val="cc3300"/>
                </a:solidFill>
                <a:latin typeface="Script MT Bold"/>
              </a:rPr>
              <a:t>#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(A </a:t>
            </a:r>
            <a:r>
              <a:rPr b="0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{ 0 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8000" y="25416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bstract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369D-36DA-4069-93E1-5319C2B148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bstract operational semantic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95440" y="1362240"/>
            <a:ext cx="775008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 abstract seman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stracts concrete values into their security level: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k,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)=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es the s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s of the concrete semantics on the abstract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(P) : abstract transition system for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ltipl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ach path of C(P) is correctly abstracted onto a path of A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876D-B83F-429F-A9BA-DB28757CF5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7000" y="20484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2979720" y="4570560"/>
            <a:ext cx="253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880" y="2274840"/>
            <a:ext cx="808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5440" y="1050840"/>
            <a:ext cx="808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ore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 P  satisfies  SIF  if for each state of A(P) such that 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P[PC] = hal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, then for each x : L i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M[x] =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M[x]=(i, L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or some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2600" y="1633680"/>
            <a:ext cx="7924680" cy="3390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760A-2F59-4CAF-8403-746FB3C3F4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7000" y="20484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2979720" y="4570560"/>
            <a:ext cx="253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2274840"/>
            <a:ext cx="808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065240"/>
            <a:ext cx="80787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ore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 P satisfies  TERM  if  each state of A(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C, M, S, IPD &gt;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ch  that 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= 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does not belong to a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773360"/>
            <a:ext cx="7763040" cy="2638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5660-D1EB-4AFA-9CA8-6D9AAD0592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sult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2979720" y="4570560"/>
            <a:ext cx="253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6880" y="2274840"/>
            <a:ext cx="808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240" y="1289160"/>
            <a:ext cx="77187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orem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rogram P  satisfies  TIME 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l paths in  A(P)  starting from a state satisfying TOP(S)=H and P[PC] = if and ending with a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atisfying  PC=ipd(i) 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have the same lengt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l paths in  A(P)  starting from a state satisfying P[PC]= ret x and M[x]=(j,H)   where  and ending with a state satisfying PC=ipd(i)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have the same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640" y="1844640"/>
            <a:ext cx="7594560" cy="3954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4415-07EC-47D6-A7F5-DDFF66FDAB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6600" y="2725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Implementation in SMV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47560" y="1654200"/>
            <a:ext cx="8080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V model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ripk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L log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pecifications = assertions on the state variables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d on the paths of the system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8E8A-0A26-4D5A-8D8B-CB98570391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6600" y="2725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Implementation in SMV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98600" y="1459080"/>
            <a:ext cx="808020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Courier New"/>
              </a:rPr>
              <a:t>SIF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Courier New"/>
              </a:rPr>
              <a:t>x in L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AG ((PC = i) and P[PC]= hal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((MEM[x]=L) or (MEM[x]=(j,L)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Courier New"/>
              </a:rPr>
              <a:t>TERM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G(((PC = i)and(ENV=H))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AG(PC != i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3297-B857-427F-A925-095B37FFE7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Related Work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571680" y="999720"/>
            <a:ext cx="841032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ng approaches (Volpano 96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eing semantics based, our approach is fi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 certify               h=l; l=h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 appro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zuno and Schmidt 92: based on denota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shi and Leino 2000: based on axiomatic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ince our model is based on operational semantic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t is fully automatic. Moreover it can be integrated with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odel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l checking approach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ibier et al. 2001: secure applet interaction (smart c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DA18-A242-48F2-A446-F6A60B0F13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180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ecure Information Flow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2560" y="1063800"/>
            <a:ext cx="795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al value of each variable does not depend on the initial value of variables  with higher or not related securit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</a:t>
            </a:r>
            <a:r>
              <a:rPr b="1" lang="en-US" sz="2400" spc="-1" strike="noStrike">
                <a:solidFill>
                  <a:srgbClr val="cc33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  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Ex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=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mplicit inform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h) l=5; else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F18C-A9A7-4906-AE78-DDD856C90E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ermination Agreemen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1473120"/>
            <a:ext cx="795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t is not possible to leak high information by observing the termination of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h &gt; 0) do sk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D9B3-592C-490C-A302-D2933AF0C9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2840" y="417600"/>
            <a:ext cx="7737480" cy="684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iming Agreemen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1473120"/>
            <a:ext cx="79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t is not possible to leak high information by observing the number of instruction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h1 == 0) { h2=1; skip; } else h2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D6B3-8B4D-4394-9FBC-7B104D19F2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5960" y="205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Previous Work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920960" y="163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9080" y="19162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473120"/>
            <a:ext cx="77835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ulation of secure information flow (Denning 76, Andrews       and Reitman 80, Banatre et al.  94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ng approaches (Volpano et al. 96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 approaches (Mizuno and Schmidt 92, Joshi and Leino 2000,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vert flows ( Lampson 73, Volpano et al. 97, 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ll approaches are defined on structured high level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ABD8-43B9-49CE-96C9-26B3CFDF6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6960" y="210960"/>
            <a:ext cx="7737480" cy="5860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706320" y="1132200"/>
            <a:ext cx="77868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are manipulated using a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guage is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not 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Virtual Machin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ownloa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 the internet and executed by web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user private data to compute so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leaka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user privat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control can be too restri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89D4-1584-44AC-ABA8-6C1F2C490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9680" y="407520"/>
            <a:ext cx="7737480" cy="5857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 simple instruction set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74640" y="1441440"/>
            <a:ext cx="77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op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p two operands off the stack, perform th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peration,  and push the result onto the stack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op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card the top value from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ush 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sh the constant  k  onto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oad x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sh the value of variable  x  onto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store x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p off the stack and store the value into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if j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p off the  stack and jump to  j  if non-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goto j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ump to   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jsr j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t address  p, jump to address  j  and push p+1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nto the operand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et x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jump to the address stored in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hal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3E05-4068-4648-9402-A92675362A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0120" y="259920"/>
            <a:ext cx="7737480" cy="68436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formation Flow in Stack Based Assembly Languages</a:t>
            </a:r>
            <a:endParaRPr b="1" lang="en-US" sz="2400" spc="-1" strike="noStrike">
              <a:solidFill>
                <a:srgbClr val="cc00ff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801720" y="1029960"/>
            <a:ext cx="7354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Explicit information fl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high level languages immediate by examining assignmen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n assembly langauges a pop instruction does not syntactically reveal the source of th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MCAI02  January 21-22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773F-4610-4360-8F90-602F00913C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4:36:51Z</dcterms:created>
  <dc:creator>Dipartimento di Ingegneria</dc:creator>
  <dc:description/>
  <dc:language>en-US</dc:language>
  <cp:lastModifiedBy>cinzia bernardeschi</cp:lastModifiedBy>
  <cp:lastPrinted>2002-01-18T13:28:53Z</cp:lastPrinted>
  <dcterms:modified xsi:type="dcterms:W3CDTF">2002-01-18T15:43:24Z</dcterms:modified>
  <cp:revision>595</cp:revision>
  <dc:subject/>
  <dc:title>Specifica (modello) di un sistema</dc:title>
</cp:coreProperties>
</file>