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0F37-A307-4F46-8768-DF3DE8321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0C79-9790-49AB-A4C8-0C02CCA47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28A8-117C-4808-8DE3-8908F9BAD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6CFA-F82A-4E41-B058-9805F94A2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93DE-1E3D-4C21-9400-9E6D95FB4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6CF2-8CC6-4176-98B5-FEDAECC7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2D41-CC8F-47C5-A03A-6D391DD56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4502-DE36-4436-8690-56E4A10CC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D3A0-051B-441E-8DC6-573085B97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5D5F-5B91-4902-BB98-009274010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8B3A-594A-4804-A7CF-E5E333E63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42A0-4EEA-4429-9CC1-D088CD231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14D-A208-4B33-8865-D4E2DC3E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Abstract Interpretation 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erto Barbuti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5192640"/>
            <a:ext cx="653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# Dipartimento di Informatica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 Dipartimento di Ingegneria della Informazione, 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384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 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50880" y="933480"/>
            <a:ext cx="759924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and Reitman 80, Banatre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it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hecking (Bibier et al. 2001 Bernardeschi De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ncesco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021A-847E-49B7-BFA5-F244AFA7B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3120" y="1622520"/>
            <a:ext cx="76006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ti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F19B-A7A2-47C5-9B99-0DBD92BE1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106380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800" y="1322280"/>
            <a:ext cx="8115120" cy="14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617B-8449-4223-A1E8-31630A049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22360" y="2165400"/>
            <a:ext cx="793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recording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taking only what concerns the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DF5D-6B55-4D10-A353-C07252D75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1230480"/>
            <a:ext cx="80182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annotat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dicates the least upper bound of the security levels of the information flows, both explicit and implicit, on which k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epresents the least upper bound of the security levels of the open implicit flows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s (possibly)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 branching instruction begins and is (possibly)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ll branches jo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48DB-6C16-499F-B1BC-8CED895D2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-360"/>
            <a:ext cx="7737480" cy="7491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01640" y="933480"/>
            <a:ext cx="8018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560" y="4854600"/>
            <a:ext cx="80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has secure information flow  if in each final state of A(P), each x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olds a value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880" y="4653000"/>
            <a:ext cx="8034480" cy="1193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2521-923A-40E3-BE2B-21BE0F6D2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04800" y="873720"/>
            <a:ext cx="79837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x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uage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mplicit flow chec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are allowed to any program point and the stack may be manipulated in different ways by the branches of a branching 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Solution: using the notion of immediate postd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DC5F-763D-46C0-BCE1-E42BB68D3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0360" y="1147680"/>
            <a:ext cx="7918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a st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environment, PC = program counter, M = mem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= operand stack, IPD = ipd stack (holds the ipds of open branching instruction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0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transition rul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22440" y="3327480"/>
            <a:ext cx="8521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the rule for 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PC]:load x, M[x]=(k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P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P(I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,M,S,IPD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PC+1,M,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(k,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·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680" y="3233880"/>
            <a:ext cx="8294400" cy="2530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A1BB-C49E-47C1-8996-2194C49B7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41440" y="1671480"/>
            <a:ext cx="8602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Abstract Interpretation of Operational Semantics for Secure Information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 appear on Information Processing Le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. Barbuti, C. Bernardeschi, N. De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hecking Security of Java Bytecode by Abstract Interpre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cial Track on Security at the ACM Sympos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 Applied Computing (SAC2002), March 10-14, Spain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2840" y="434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ork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I for secure information flo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E742-7744-47D9-A64E-0CD80B2B4E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Administrator</cp:lastModifiedBy>
  <dcterms:modified xsi:type="dcterms:W3CDTF">2002-01-17T14:04:43Z</dcterms:modified>
  <cp:revision>577</cp:revision>
  <dc:subject/>
  <dc:title>Specifica (modello) di un sistema</dc:title>
</cp:coreProperties>
</file>