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56FF-28D1-4C36-8930-89B847517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6AFC-29F0-4758-A640-D0C71BFE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DA0C-4F74-4E91-B9B0-78E0DF702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B87F-04F9-48BD-8062-F3BE581D6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C235-1268-41A3-B006-2CFD1FE37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760D-EB2E-4E2B-8646-AEE69E935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5FF2-8EA8-4397-87A8-EBC9C0BDE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BD83-3E3D-4F92-A875-7DAE4A768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C647-3A73-4A2C-A923-B71F01786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ABBC-C686-4330-8C7D-43C60F11C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BFD3-4889-495B-8B8A-2AF500F47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DECB-7125-49F2-A484-22B6ACE4B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97F-C408-4DE7-A4D0-C949C10B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Abstract Interpretation 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erto Barbuti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5192640"/>
            <a:ext cx="653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# Dipartimento di Informatica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 Dipartimento di Ingegneria della Informazione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384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 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50880" y="933480"/>
            <a:ext cx="759924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and Reitman 80, Banatre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it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hecking (Bibier et al. 2001 Bernardeschi De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ncesco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05E6-6793-4DE0-BC7D-BD27FDD211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3120" y="1622520"/>
            <a:ext cx="76006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ti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9E53-3427-43FE-BD0E-D43BFBE54B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106380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800" y="1322280"/>
            <a:ext cx="8115120" cy="14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E13E-3B7F-465C-8D15-BB919581D0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22360" y="2165400"/>
            <a:ext cx="793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recording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taking only what concerns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D0D2-707B-4132-AC8F-446746D51D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1230480"/>
            <a:ext cx="80182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annotat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dicates the least upper bound of the security levels of the information flows, both explicit and implicit, on which k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epresents the least upper bound of the security levels of the open implicit flows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s (possibly)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 branching instruction begins and is (possibly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ll branches jo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7BB4-2DE9-44F9-823D-5CB28597C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-360"/>
            <a:ext cx="7737480" cy="7491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01640" y="933480"/>
            <a:ext cx="8018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560" y="4854600"/>
            <a:ext cx="80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has secure information flow  if in each final state of A(P), each x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olds a value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880" y="4653000"/>
            <a:ext cx="8034480" cy="1193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FF69-4559-4E07-A5E7-B881DDAC2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04800" y="873720"/>
            <a:ext cx="79837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x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uage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m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are allowed to any program point and the stack may be manipulated in different ways by the branches of a branching 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notion of immediate postd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1ECB-6CC5-4822-AE1E-64BEDA4CF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0360" y="1147680"/>
            <a:ext cx="7918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a st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environment, PC = program counter, M = mem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= operand stack, IPD = ipd stack (holds the ipds of open branching instruction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0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transition rul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2440" y="3327480"/>
            <a:ext cx="8521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the rule for 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PC]:load x, M[x]=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P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P(I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,M,S,IPD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+1,M,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(k,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·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680" y="3233880"/>
            <a:ext cx="8294400" cy="2530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F1D4-42A5-4049-8640-E6118E3A7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41440" y="1671480"/>
            <a:ext cx="8602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Abstract Interpretation of Operational Semantics for Secure Information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 appear on Information Processing Le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hecking Security of Java Bytecode by Abstract Interpr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cial Track on Security at the ACM Sympos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 Applied Computing (SAC2002), March 10-14, Spain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2840" y="434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ork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9717-618A-44E5-B10E-F914C158E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Administrator</cp:lastModifiedBy>
  <dcterms:modified xsi:type="dcterms:W3CDTF">2002-01-17T14:04:43Z</dcterms:modified>
  <cp:revision>577</cp:revision>
  <dc:subject/>
  <dc:title>Specifica (modello) di un sistema</dc:title>
</cp:coreProperties>
</file>