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AA84D-8305-42C1-9ECB-DBAE48EA9A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405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440" y="4155120"/>
            <a:ext cx="79405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27520-5CC0-4830-8A3F-CB3E5BE159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7468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4160" y="1980720"/>
            <a:ext cx="387468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4155120"/>
            <a:ext cx="387468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4160" y="4155120"/>
            <a:ext cx="387468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FE5A0-3BCD-44EF-B478-18D83B3238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567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70320" y="1980720"/>
            <a:ext cx="25567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5200" y="1980720"/>
            <a:ext cx="25567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440" y="4155120"/>
            <a:ext cx="25567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70320" y="4155120"/>
            <a:ext cx="25567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5200" y="4155120"/>
            <a:ext cx="25567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44CD0-B2E7-4162-9D65-15E9F7C9A6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940520" cy="41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8C2E2-58E0-4B5F-B1BE-B8CAA873F3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40520" cy="41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09BD0-215E-4B58-9070-6591F55618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74680" cy="41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4160" y="1980720"/>
            <a:ext cx="3874680" cy="41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3B140-E398-4CA2-AAB4-5121537D3E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B2915-4EDF-4854-AF57-3560A330EE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72840" y="417600"/>
            <a:ext cx="7737480" cy="31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01E14-9EB2-41C6-9994-DCF35AF024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7468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4160" y="1980720"/>
            <a:ext cx="3874680" cy="41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440" y="4155120"/>
            <a:ext cx="387468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B2CE3-27DF-4B1A-86B7-05FB9F46FD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74680" cy="41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4160" y="1980720"/>
            <a:ext cx="387468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4160" y="4155120"/>
            <a:ext cx="387468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45B4E-9A84-430C-AB2B-E22412E648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7468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4160" y="1980720"/>
            <a:ext cx="387468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155120"/>
            <a:ext cx="79405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CAB3D-CA39-4BF3-A7E0-30DDB51C12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Comic Sans MS"/>
              </a:rPr>
              <a:t>Click to edit the title text format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940520" cy="4162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160"/>
            <a:ext cx="7772400" cy="29988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F033-599B-49AA-8328-91DC0D690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42960" y="674280"/>
            <a:ext cx="77724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mic Sans MS"/>
              </a:rPr>
              <a:t>Combining Abstract Interpretation  and Model Checking for Analysing </a:t>
            </a:r>
            <a:br>
              <a:rPr sz="2400"/>
            </a:br>
            <a:r>
              <a:rPr b="1" lang="it-IT" sz="2400" spc="-1" strike="noStrike">
                <a:solidFill>
                  <a:srgbClr val="cc3300"/>
                </a:solidFill>
                <a:latin typeface="Comic Sans MS"/>
              </a:rPr>
              <a:t>Security Properties of Java Bytecode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2490480" y="2362320"/>
            <a:ext cx="4195800" cy="18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nzia Bernardes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coletta De France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60200" y="4700520"/>
            <a:ext cx="449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Dipartimento di Ingegneria dell’Inform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Università di Pi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0120" y="259920"/>
            <a:ext cx="7737480" cy="68436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Information Flow in Stack Based Assembly Languages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70" name=""/>
          <p:cNvSpPr/>
          <p:nvPr/>
        </p:nvSpPr>
        <p:spPr>
          <a:xfrm>
            <a:off x="860400" y="1280520"/>
            <a:ext cx="7743960" cy="49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Implicit information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structured languages the scope of an implicit  flow coincid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ith the conditional or iterative command itse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in unstructured langauges jumps to any program point are allow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the stack may be manipulated in different ways by the branches of a branching instruction: they can perform a different number of pop and push operations, and with a different or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1BD29-382F-4C54-B7E2-54297912AEB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Security by Abstract Interpretation + Model Checking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1015920" y="1517760"/>
            <a:ext cx="7248600" cy="42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Abstract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stract domain of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ecute the program operating over abstract do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stract semantics = structure representing all executions in a finite wa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Model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del check the abstract semantics against temporal logic formulae expressing the expected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DB9A3-F745-41BA-A9A6-354357853D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An Abstract Interpretation Approach Based on Operational Semantics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74" name=""/>
          <p:cNvSpPr/>
          <p:nvPr/>
        </p:nvSpPr>
        <p:spPr>
          <a:xfrm>
            <a:off x="549360" y="1770120"/>
            <a:ext cx="793260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crete instrumented semantics maintaining also the security level of d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bstract semantics forgetting the actual values and maintaining the security level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rrectness of the abs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0DB86-8B62-426A-A00B-1E06E8DAE9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2840" y="222120"/>
            <a:ext cx="7737480" cy="749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Concrete Operational Semantics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76" name=""/>
          <p:cNvSpPr/>
          <p:nvPr/>
        </p:nvSpPr>
        <p:spPr>
          <a:xfrm>
            <a:off x="561960" y="1322280"/>
            <a:ext cx="773604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n instrumented semantics whic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Handles values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enriched with a security level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. During the execution of a program, the security level of a value indicates the least upper bound of the security levels of the information flows, both explicit and implicit, on which  the value depend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xecutes instructions under a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security environment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.  During the execution, the security environment represents the least upper bound of the security levels of the open implicit flows. The security environment  is possibly 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upgraded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by a branching instruction and can be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downgraded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when an implicit flow termina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(P) : concrete transition system for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C985E-DB23-4110-ADFF-93CAAF7D95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090960" y="1501920"/>
            <a:ext cx="801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he semantics uses the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control flow graph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of the program  to handle implicit flow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8720" y="5189400"/>
            <a:ext cx="801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he implicit flow of  an if or ret instruction  at address i terminates at the instruction with address ipd(i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20960" y="3308400"/>
            <a:ext cx="4605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j=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immediate postdominator of 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: the first node belonging to all paths from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24080" y="1860480"/>
            <a:ext cx="538200" cy="424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6800" y="2763720"/>
            <a:ext cx="538200" cy="424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68360" y="3897360"/>
            <a:ext cx="538200" cy="423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41440" y="2765520"/>
            <a:ext cx="538200" cy="423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2"/>
            <a:endCxn id="81" idx="0"/>
          </p:cNvCxnSpPr>
          <p:nvPr/>
        </p:nvCxnSpPr>
        <p:spPr>
          <a:xfrm flipH="1">
            <a:off x="766080" y="2298240"/>
            <a:ext cx="827640" cy="451800"/>
          </a:xfrm>
          <a:prstGeom prst="straightConnector1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0" idx="2"/>
            <a:endCxn id="83" idx="0"/>
          </p:cNvCxnSpPr>
          <p:nvPr/>
        </p:nvCxnSpPr>
        <p:spPr>
          <a:xfrm>
            <a:off x="1593360" y="2298240"/>
            <a:ext cx="1018440" cy="453240"/>
          </a:xfrm>
          <a:prstGeom prst="straightConnector1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1" idx="2"/>
            <a:endCxn id="82" idx="0"/>
          </p:cNvCxnSpPr>
          <p:nvPr/>
        </p:nvCxnSpPr>
        <p:spPr>
          <a:xfrm>
            <a:off x="766440" y="3201840"/>
            <a:ext cx="872280" cy="681840"/>
          </a:xfrm>
          <a:prstGeom prst="straightConnector1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3" idx="1"/>
            <a:endCxn id="81" idx="3"/>
          </p:cNvCxnSpPr>
          <p:nvPr/>
        </p:nvCxnSpPr>
        <p:spPr>
          <a:xfrm flipH="1" flipV="1">
            <a:off x="1049040" y="2975760"/>
            <a:ext cx="1278720" cy="2520"/>
          </a:xfrm>
          <a:prstGeom prst="straightConnector1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3" idx="2"/>
            <a:endCxn id="82" idx="0"/>
          </p:cNvCxnSpPr>
          <p:nvPr/>
        </p:nvCxnSpPr>
        <p:spPr>
          <a:xfrm flipH="1">
            <a:off x="1637640" y="3203280"/>
            <a:ext cx="973800" cy="680040"/>
          </a:xfrm>
          <a:prstGeom prst="straightConnector1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1430280" y="184932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15960" y="391176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550880" y="1371600"/>
            <a:ext cx="15840" cy="49068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1638360" y="4348080"/>
            <a:ext cx="15840" cy="49068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2840" y="222120"/>
            <a:ext cx="7737480" cy="749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Control Flow Graph and ipd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77D9C-FE7C-486C-B19E-6C24D032E3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Domains of the concrete semantics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95" name=""/>
          <p:cNvSpPr/>
          <p:nvPr/>
        </p:nvSpPr>
        <p:spPr>
          <a:xfrm>
            <a:off x="741240" y="1833480"/>
            <a:ext cx="7427880" cy="36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urity level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L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= {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&lt;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H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</a:t>
            </a: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.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onstants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V           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k, k’, ..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resses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A          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i, j, 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crete Values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V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cript MT Bold"/>
              </a:rPr>
              <a:t>=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V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L</a:t>
            </a:r>
            <a:r>
              <a:rPr b="1" lang="en-US" sz="2000" spc="-1" strike="noStrike">
                <a:solidFill>
                  <a:srgbClr val="cc3300"/>
                </a:solidFill>
                <a:latin typeface="Script MT Bold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           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( k,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crete Addresses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A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cript MT Bold"/>
              </a:rPr>
              <a:t>=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A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L        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( i,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crete Memories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M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cript MT Bold"/>
              </a:rPr>
              <a:t>=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var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 ( </a:t>
            </a:r>
            <a:r>
              <a:rPr b="1" lang="en-US" sz="2000" spc="-1" strike="noStrike">
                <a:solidFill>
                  <a:srgbClr val="cc3300"/>
                </a:solidFill>
                <a:latin typeface="Script MT Bold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Script MT Bold"/>
              </a:rPr>
              <a:t>A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)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M, M’,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.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crete Stacks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S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cript MT Bold"/>
              </a:rPr>
              <a:t>=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(</a:t>
            </a: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A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)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 </a:t>
            </a:r>
            <a:r>
              <a:rPr b="0" lang="en-US" sz="2400" spc="-1" strike="noStrike" baseline="30000">
                <a:solidFill>
                  <a:srgbClr val="cc3300"/>
                </a:solidFill>
                <a:latin typeface="Comic Sans MS"/>
              </a:rPr>
              <a:t>*</a:t>
            </a:r>
            <a:r>
              <a:rPr b="0" lang="en-US" sz="2400" spc="-1" strike="noStrike" baseline="30000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400" spc="-1" strike="noStrike" baseline="30000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 baseline="30000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S, S’,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vironments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cript MT Bold"/>
              </a:rPr>
              <a:t>=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</a:t>
            </a: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.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DBB45-4634-4661-8A4F-E51DF0B326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054080" y="1360440"/>
            <a:ext cx="742788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STATES           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L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 A 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M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S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 ( A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{ 0 }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PC, M, S, IPD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gram cou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perand 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H, holds the address wher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high implicit flow termi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P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L, holds 0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Concrete semantics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2629080" y="4359240"/>
            <a:ext cx="201600" cy="1470240"/>
          </a:xfrm>
          <a:custGeom>
            <a:avLst/>
            <a:gdLst>
              <a:gd name="textAreaLeft" fmla="*/ 128880 w 201600"/>
              <a:gd name="textAreaRight" fmla="*/ 201960 w 201600"/>
              <a:gd name="textAreaTop" fmla="*/ 38160 h 1470240"/>
              <a:gd name="textAreaBottom" fmla="*/ 1432080 h 147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25A1A-F8F7-4614-9380-487CAD1C3D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81040" y="1523880"/>
            <a:ext cx="799956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[PC] :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ad x ,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[x] = (k,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,  PC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PC, M, S, IPD &gt; 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PC+1, M,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(k,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) · 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IPD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Transition relation rules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F4B2D-5D5D-4FA2-B634-965F1C4AD8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81040" y="1523880"/>
            <a:ext cx="799956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[PC] :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e x ,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C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PD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PC, M,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(k,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) · 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IPD &g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PC+1,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M[ (k,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)/ </a:t>
            </a: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], 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IPD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Transition relation rules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3F07F-9F77-4763-B82E-20EE60A93B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81040" y="1523880"/>
            <a:ext cx="742788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PC, M, S, PC &g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L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PC , M, S,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Transition relation rules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49461-7D72-4CC4-B432-5DFACE4BE8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00000" y="1231920"/>
            <a:ext cx="7485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program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lattice of security levels 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</a:t>
            </a:r>
            <a:r>
              <a:rPr b="1" lang="en-US" sz="2400" spc="-1" strike="noStrike">
                <a:solidFill>
                  <a:srgbClr val="cc3300"/>
                </a:solidFill>
                <a:latin typeface="Moder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variable of P is assigned a security level in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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ity: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formation at a   given security level does not flow to lower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3200" y="237960"/>
            <a:ext cx="7737480" cy="68436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Security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" name=""/>
          <p:cNvCxnSpPr>
            <a:stCxn id="43" idx="3"/>
            <a:endCxn id="43" idx="3"/>
          </p:cNvCxnSpPr>
          <p:nvPr/>
        </p:nvCxnSpPr>
        <p:spPr>
          <a:xfrm>
            <a:off x="8384760" y="3103200"/>
            <a:ext cx="1080" cy="1080"/>
          </a:xfrm>
          <a:prstGeom prst="straightConnector1">
            <a:avLst/>
          </a:prstGeom>
          <a:ln w="28440">
            <a:solidFill>
              <a:srgbClr val="cc3300"/>
            </a:solidFill>
            <a:miter/>
          </a:ln>
        </p:spPr>
      </p:cxnSp>
      <p:cxnSp>
        <p:nvCxnSpPr>
          <p:cNvPr id="46" name=""/>
          <p:cNvCxnSpPr/>
          <p:nvPr/>
        </p:nvCxnSpPr>
        <p:spPr>
          <a:xfrm>
            <a:off x="3317400" y="3452400"/>
            <a:ext cx="1080" cy="1080"/>
          </a:xfrm>
          <a:prstGeom prst="straightConnector1">
            <a:avLst/>
          </a:prstGeom>
          <a:ln w="28440">
            <a:solidFill>
              <a:srgbClr val="cc3300"/>
            </a:solidFill>
            <a:miter/>
          </a:ln>
        </p:spPr>
      </p:cxn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707E3-DE5A-4AB7-9E5B-DC58EC33A6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00200" y="1262160"/>
            <a:ext cx="7840440" cy="47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[PC] :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j ,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C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PC, M, (0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· S, IPD &gt; 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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PC+1,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up(M),up(S), IPD’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pd(PC)  i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L  and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H, (an high implicit 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PD’=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begi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PD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p(M) upgrades the value of the variables assigned in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cope of the implicit flow beginning at 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p(S) upgrades all elements in the 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38000" y="244080"/>
            <a:ext cx="7737480" cy="68436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Transition relation rules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1488960" y="354168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457E0-1EE3-4121-97C5-C01D9E69092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07920" y="1293840"/>
            <a:ext cx="7427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stract constan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V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cript MT Bold"/>
              </a:rPr>
              <a:t># 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cript MT Bold"/>
              </a:rPr>
              <a:t>= 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{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 }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cript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stract security levels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L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cript MT Bold"/>
              </a:rPr>
              <a:t>#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cript MT Bold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cript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stract Values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V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cript MT Bold"/>
              </a:rPr>
              <a:t>#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: V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cript MT Bold"/>
              </a:rPr>
              <a:t>#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L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cript MT Bold"/>
              </a:rPr>
              <a:t>#   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ymbol"/>
                <a:ea typeface="Symbol"/>
              </a:rPr>
              <a:t>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cript MT Bold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L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stract Addresses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A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cript MT Bold"/>
              </a:rPr>
              <a:t>#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cript MT Bold"/>
              </a:rPr>
              <a:t>=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stract Memories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M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cript MT Bold"/>
              </a:rPr>
              <a:t>#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: var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(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A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stract Stacks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S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cript MT Bold"/>
              </a:rPr>
              <a:t>#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: (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A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)</a:t>
            </a:r>
            <a:r>
              <a:rPr b="0" lang="en-US" sz="2400" spc="-1" strike="noStrike" baseline="30000">
                <a:solidFill>
                  <a:srgbClr val="cc3300"/>
                </a:solidFill>
                <a:latin typeface="Comic Sans MS"/>
              </a:rPr>
              <a:t>*</a:t>
            </a:r>
            <a:r>
              <a:rPr b="0" lang="en-US" sz="2400" spc="-1" strike="noStrike" baseline="30000">
                <a:solidFill>
                  <a:srgbClr val="cc33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stract Environments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E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cript MT Bold"/>
              </a:rPr>
              <a:t>#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cript MT Bold"/>
              </a:rPr>
              <a:t>=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E 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cript MT Bold"/>
              </a:rPr>
              <a:t>=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stract States: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        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L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A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M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cript MT Bold"/>
              </a:rPr>
              <a:t>#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S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cript MT Bold"/>
              </a:rPr>
              <a:t>#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(A </a:t>
            </a:r>
            <a:r>
              <a:rPr b="0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{ 0 }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8000" y="254160"/>
            <a:ext cx="7737480" cy="6840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Abstract semantics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B3C79-8648-44B9-A85B-DFD42F9E61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Abstract operational semantics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595440" y="1362240"/>
            <a:ext cx="7750080" cy="43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he abstract seman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bstracts concrete values into their security level: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(k,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)=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uses the sam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ules of the concrete semantics on the abstract do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(P) : abstract transition system for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fin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multiple 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ach path of C(P) is correctly abstracted onto a path of A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C556B-0F4F-4DB6-B7EA-232FADE40EB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7000" y="204840"/>
            <a:ext cx="7737480" cy="6840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Results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2979720" y="4570560"/>
            <a:ext cx="2535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6880" y="2274840"/>
            <a:ext cx="808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5440" y="1050840"/>
            <a:ext cx="8080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heorem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 program  P  satisfies  SIF  if for each state of A(P) such that  </a:t>
            </a: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P[PC] = halt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, then for each x : L it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M[x] = 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M[x]=(i, L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for some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2600" y="1633680"/>
            <a:ext cx="7924680" cy="3390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B1DC4-BB43-45DE-9E2C-35E6FE46226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7000" y="204840"/>
            <a:ext cx="7737480" cy="6840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Results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2979720" y="4570560"/>
            <a:ext cx="2535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6880" y="2274840"/>
            <a:ext cx="808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5640" y="1065240"/>
            <a:ext cx="807876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heorem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 program  P satisfies  TERM  if  each state of A(P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PC, M, S, IPD &gt;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uch  that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</a:t>
            </a: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 = H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does not belong to a cy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1773360"/>
            <a:ext cx="7763040" cy="2638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6BAE3-35B5-43C1-B972-3492B870460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Results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123" name=""/>
          <p:cNvSpPr/>
          <p:nvPr/>
        </p:nvSpPr>
        <p:spPr>
          <a:xfrm>
            <a:off x="2979720" y="4570560"/>
            <a:ext cx="2535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6880" y="2274840"/>
            <a:ext cx="808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0240" y="1289160"/>
            <a:ext cx="771876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heorem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 program P  satisfies  TIME 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ll paths in  A(P)  starting from a state satisfying TOP(S)=H and P[PC] = if and ending with a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atisfying  PC=ipd(i)  </a:t>
            </a: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have the same length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ll paths in  A(P)  starting from a state satisfying P[PC]= ret x and M[x]=(j,H)   where  and ending with a state satisfying PC=ipd(i) </a:t>
            </a: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have the same l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640" y="1844640"/>
            <a:ext cx="7594560" cy="3954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65C64-AF50-4CA6-A513-2A1ED68CF81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96600" y="272520"/>
            <a:ext cx="7737480" cy="68436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mic Sans MS"/>
              </a:rPr>
              <a:t>Implementation in SMV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547560" y="1654200"/>
            <a:ext cx="808056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MV model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ripke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L log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pecifications = assertions on the state variables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nd on the paths of the system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1F975-4123-4EEE-B6F2-01C2BD30F51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96600" y="272520"/>
            <a:ext cx="7737480" cy="68436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mic Sans MS"/>
              </a:rPr>
              <a:t>Implementation in SMV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498600" y="1459080"/>
            <a:ext cx="8080200" cy="44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it-IT" sz="2800" spc="-1" strike="noStrike" baseline="-25000">
                <a:solidFill>
                  <a:srgbClr val="000000"/>
                </a:solidFill>
                <a:latin typeface="Courier New"/>
              </a:rPr>
              <a:t>SIF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and 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Courier New"/>
              </a:rPr>
              <a:t>x in L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AG ((PC = i) and P[PC]= hal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((MEM[x]=L) or (MEM[x]=(j,L))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it-IT" sz="2800" spc="-1" strike="noStrike" baseline="-25000">
                <a:solidFill>
                  <a:srgbClr val="000000"/>
                </a:solidFill>
                <a:latin typeface="Courier New"/>
              </a:rPr>
              <a:t>TERM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AG(((PC = i)and(ENV=H))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AG(PC != i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12BAA-DA91-4030-A74F-C90F593E815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Related Work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571680" y="999720"/>
            <a:ext cx="8410320" cy="51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yping approaches (Volpano 96, ..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being semantics based, our approach is fin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we certify               h=l; l=h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mantic approach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zuno and Schmidt 92: based on denotational seman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oshi and Leino 2000: based on axiomatic seman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Since our model is based on operational semantic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it is fully automatic. Moreover it can be integrated with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model che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del checking approach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Bibier et al. 2001: secure applet interaction (smart ca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9EA9E-BCD3-4507-8134-1D582F3C4A4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21800" y="205920"/>
            <a:ext cx="7737480" cy="68436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Secure Information Flow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1920960" y="1636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59080" y="191628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2560" y="1063800"/>
            <a:ext cx="7958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S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inal value of each variable does not depend on the initial value of variables  with higher or not related security lev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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{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}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  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: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,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: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Explicit information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=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Implicit information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h) l=5; else sk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89A8E-E09F-46EB-A088-E521EEF7F2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Termination Agreement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1920960" y="1636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59080" y="191628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3280" y="1473120"/>
            <a:ext cx="7958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t is not possible to leak high information by observing the termination of th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 (h &gt; 0) do ski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B0098-5221-4263-88AA-E45FFFED48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Timing Agreement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920960" y="1636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59080" y="191628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3280" y="1473120"/>
            <a:ext cx="7958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t is not possible to leak high information by observing the number of instructions exec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h1 == 0) { h2=1; skip; } else h2=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6FC60-4D2B-4BD9-9DE4-3FFA04E432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5960" y="205920"/>
            <a:ext cx="7737480" cy="68436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Previous Work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1920960" y="1636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59080" y="191628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3280" y="1473120"/>
            <a:ext cx="7783560" cy="42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mulation of secure information flow (Denning 76, Andrews       and Reitman 80, Banatre et al.  94, ..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yping approaches (Volpano et al. 96, ..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mantic approaches (Mizuno and Schmidt 92, Joshi and Leino 2000, 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vert flows ( Lampson 73, Volpano et al. 97, ..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all approaches are defined on structured high level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6785C-5403-4974-BE72-0845C5D775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86960" y="210960"/>
            <a:ext cx="7737480" cy="58608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Stack Based Assembly Languages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64" name=""/>
          <p:cNvSpPr/>
          <p:nvPr/>
        </p:nvSpPr>
        <p:spPr>
          <a:xfrm>
            <a:off x="706320" y="1132200"/>
            <a:ext cx="778680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ta are manipulated using a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anguage is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not struct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ava Virtual Machin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download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y the internet and executed by web brow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ed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acces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 user private data to compute some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sible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leakag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user private d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cess control can be too restric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00226-DB03-4557-9326-F25DE58043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9680" y="407520"/>
            <a:ext cx="7737480" cy="5857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A simple instruction set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674640" y="1441440"/>
            <a:ext cx="7786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op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op two operands off the stack, perform the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operation,  and push the result onto the stack</a:t>
            </a:r>
            <a:r>
              <a:rPr b="0" lang="it-IT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pop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iscard the top value from the 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push k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ush the constant  k  onto the 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load x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ush the value of variable  x  onto the 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store x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op off the stack and store the value into 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if j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op off the  stack and jump to  j  if non-ze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goto j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jump to   j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jsr j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t address  p, jump to address  j  and push p+1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onto the operand 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ret x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jump to the address stored in 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halt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8D931-1735-45B3-BAA7-403C9A8337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90120" y="259920"/>
            <a:ext cx="7737480" cy="68436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Information Flow in Stack Based Assembly Languages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68" name=""/>
          <p:cNvSpPr/>
          <p:nvPr/>
        </p:nvSpPr>
        <p:spPr>
          <a:xfrm>
            <a:off x="801720" y="1029960"/>
            <a:ext cx="7354800" cy="39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Explicit information flow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high level languages immediate by examining assignment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in assembly langauges a pop instruction does not syntactically reveal the source of the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e x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8C964-C2AC-4264-8A1D-C218343988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6T14:36:51Z</dcterms:created>
  <dc:creator>Dipartimento di Ingegneria</dc:creator>
  <dc:description/>
  <dc:language>en-US</dc:language>
  <cp:lastModifiedBy>cinzia bernardeschi</cp:lastModifiedBy>
  <cp:lastPrinted>2002-01-18T13:28:53Z</cp:lastPrinted>
  <dcterms:modified xsi:type="dcterms:W3CDTF">2002-01-18T15:43:24Z</dcterms:modified>
  <cp:revision>595</cp:revision>
  <dc:subject/>
  <dc:title>Specifica (modello) di un sistema</dc:title>
</cp:coreProperties>
</file>