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8D784-A96A-4AAC-A444-D509C6549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405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55120"/>
            <a:ext cx="79405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DA69C-EC86-4E32-A8EA-FB21A5732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416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91B26-903E-4562-A81B-CC2F6C7D5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70320" y="19807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5200" y="19807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551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70320" y="41551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5200" y="41551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120A5-5BA2-406B-83A7-DAEF94B43C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94052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E673-A224-4471-A2BF-5238A8D265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4052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953DC-9C35-4C96-B7FD-08233C73D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96B40-80F3-4180-9C50-A8B43124E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1EE15-5F9F-4659-B6DB-AD5149D69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72840" y="417600"/>
            <a:ext cx="7737480" cy="31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14F63-93F8-4870-9075-6E3A756BE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0C085-2478-41F9-BCA1-7FA3A4651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416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DB057-20D0-4D73-9D6A-F6235ED0D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55120"/>
            <a:ext cx="79405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76D7D-ADB7-4CF7-9E1A-33A2CDEBB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940520" cy="4162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160"/>
            <a:ext cx="7772400" cy="299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2F36-FA41-47D7-A8D9-E79DE4266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2960" y="67428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mic Sans MS"/>
              </a:rPr>
              <a:t>Combining Abstract Interpretation  and Model Checking for Analysing 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mic Sans MS"/>
              </a:rPr>
              <a:t>Security Properties of Java Bytecode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490480" y="2362320"/>
            <a:ext cx="4195800" cy="18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nzia Bernardes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coletta De France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60200" y="4700520"/>
            <a:ext cx="449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ipartimento di Ingegneria dell’Inform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Università di P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0120" y="2599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Information Flow in Stack Based Assembly Languag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860400" y="1280520"/>
            <a:ext cx="774396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mplicit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structured languages the scope of an implicit  flow coinci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the conditional or iterative command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n unstructured langauges jumps to any program point are 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the stack may be manipulated in different ways by the branches of a branching instruction: they can perform a different number of pop and push operations, and with a different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E6161-143F-4351-AEEE-64DBAC0096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Security by Abstract Interpretation + Model Checking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1015920" y="1517760"/>
            <a:ext cx="724860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Abstract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domain of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ecute the program operating over abstract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semantics = structure representing all executions in a finite wa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odel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el check the abstract semantics against temporal logic formulae expressing the expecte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A0385-B484-4911-AB37-8AACBD69A2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n Abstract Interpretation Approach Based on Operational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549360" y="1770120"/>
            <a:ext cx="79326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rete instrumented semantics maintaining also the security level of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stract semantics forgetting the actual values and maintaining the security level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rectness of the ab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AEB84-26B9-4B9B-AE30-2F481E4912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2840" y="222120"/>
            <a:ext cx="7737480" cy="749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oncrete Operational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561960" y="1322280"/>
            <a:ext cx="773604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 instrumented semantics whi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andles values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enriched with a security leve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 During the execution of a program, the security level of a value indicates the least upper bound of the security levels of the information flows, both explicit and implicit, on which  the value depen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xecutes instructions under a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security environment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  During the execution, the security environment represents the least upper bound of the security levels of the open implicit flows. The security environment  is possibly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upgrade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by a branching instruction and can be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downgrade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when an implicit flow termin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(P) : concrete transition system for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86DB5-B714-4390-8694-64A0285A88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90960" y="1501920"/>
            <a:ext cx="801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semantics uses the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control flow graph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f the program  to handle implicit flow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8720" y="5189400"/>
            <a:ext cx="801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implicit flow of  an if or ret instruction  at address i terminates at the instruction with address ipd(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20960" y="3308400"/>
            <a:ext cx="460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j=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mmediate postdominator of 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: the first node belonging to all paths from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24080" y="1860480"/>
            <a:ext cx="538200" cy="424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800" y="2763720"/>
            <a:ext cx="538200" cy="424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68360" y="3897360"/>
            <a:ext cx="538200" cy="423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41440" y="2765520"/>
            <a:ext cx="538200" cy="423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2"/>
            <a:endCxn id="81" idx="0"/>
          </p:cNvCxnSpPr>
          <p:nvPr/>
        </p:nvCxnSpPr>
        <p:spPr>
          <a:xfrm flipH="1">
            <a:off x="766080" y="2298240"/>
            <a:ext cx="827640" cy="451800"/>
          </a:xfrm>
          <a:prstGeom prst="straightConnector1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0" idx="2"/>
            <a:endCxn id="83" idx="0"/>
          </p:cNvCxnSpPr>
          <p:nvPr/>
        </p:nvCxnSpPr>
        <p:spPr>
          <a:xfrm>
            <a:off x="1593360" y="2298240"/>
            <a:ext cx="1018440" cy="453240"/>
          </a:xfrm>
          <a:prstGeom prst="straightConnector1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1" idx="2"/>
            <a:endCxn id="82" idx="0"/>
          </p:cNvCxnSpPr>
          <p:nvPr/>
        </p:nvCxnSpPr>
        <p:spPr>
          <a:xfrm>
            <a:off x="766440" y="3201840"/>
            <a:ext cx="872280" cy="681840"/>
          </a:xfrm>
          <a:prstGeom prst="straightConnector1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3" idx="1"/>
            <a:endCxn id="81" idx="3"/>
          </p:cNvCxnSpPr>
          <p:nvPr/>
        </p:nvCxnSpPr>
        <p:spPr>
          <a:xfrm flipH="1" flipV="1">
            <a:off x="1049040" y="2975760"/>
            <a:ext cx="1278720" cy="2520"/>
          </a:xfrm>
          <a:prstGeom prst="straightConnector1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3" idx="2"/>
            <a:endCxn id="82" idx="0"/>
          </p:cNvCxnSpPr>
          <p:nvPr/>
        </p:nvCxnSpPr>
        <p:spPr>
          <a:xfrm flipH="1">
            <a:off x="1637640" y="3203280"/>
            <a:ext cx="973800" cy="680040"/>
          </a:xfrm>
          <a:prstGeom prst="straightConnector1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30280" y="1849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91176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550880" y="1371600"/>
            <a:ext cx="15840" cy="49068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638360" y="4348080"/>
            <a:ext cx="15840" cy="49068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222120"/>
            <a:ext cx="7737480" cy="749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ontrol Flow Graph and ipd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155A0-ABEA-4DDE-8D0A-EA0CBECF7B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Domains of the concrete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741240" y="1833480"/>
            <a:ext cx="742788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urity leve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{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&lt;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.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stant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V          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k, k’, ..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es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A          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i, j,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rete Values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V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=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V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1" lang="en-US" sz="2000" spc="-1" strike="noStrike">
                <a:solidFill>
                  <a:srgbClr val="cc3300"/>
                </a:solidFill>
                <a:latin typeface="Script MT Bold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         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( k,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rete Addresses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A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=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A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        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( i,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rete Memori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M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=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var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( </a:t>
            </a:r>
            <a:r>
              <a:rPr b="1" lang="en-US" sz="2000" spc="-1" strike="noStrike">
                <a:solidFill>
                  <a:srgbClr val="cc3300"/>
                </a:solidFill>
                <a:latin typeface="Script MT Bold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cript MT Bold"/>
              </a:rPr>
              <a:t>A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)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M, M’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.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rete Stacks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S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=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(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A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 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*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S, S’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vironments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=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816A6-26BB-488F-AD7C-E066F82FC8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54080" y="1360440"/>
            <a:ext cx="742788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STATES           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 A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M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S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 ( A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{ 0 }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PC, M, S, IPD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am 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erand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H, holds the address wher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high implicit flow term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L, holds 0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oncrete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2629080" y="4359240"/>
            <a:ext cx="201600" cy="1470240"/>
          </a:xfrm>
          <a:custGeom>
            <a:avLst/>
            <a:gdLst>
              <a:gd name="textAreaLeft" fmla="*/ 128880 w 201600"/>
              <a:gd name="textAreaRight" fmla="*/ 201960 w 201600"/>
              <a:gd name="textAreaTop" fmla="*/ 38160 h 1470240"/>
              <a:gd name="textAreaBottom" fmla="*/ 1432080 h 147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8579C-298F-45DD-A1FE-6D82A5C86A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81040" y="1523880"/>
            <a:ext cx="799956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[PC] 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 x 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[x] = (k,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,  P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, M, S, IPD &gt;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+1, M,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(k,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) · 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PD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ransition relation rul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49B7-B8A1-4F82-8410-019D7B164B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81040" y="1523880"/>
            <a:ext cx="799956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[PC] 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 x 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PD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, M,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(k,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) · 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PD 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+1,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M[ (k,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)/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], 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PD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ransition relation rul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BE6AB-4A12-4E93-A179-69431073A8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81040" y="1523880"/>
            <a:ext cx="74278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, M, S, PC 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 , M, S,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ransition relation rul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A7179-C42B-477C-A121-70E6DA801C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00000" y="1231920"/>
            <a:ext cx="7485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rogram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attice of security levels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</a:t>
            </a:r>
            <a:r>
              <a:rPr b="1" lang="en-US" sz="2400" spc="-1" strike="noStrike">
                <a:solidFill>
                  <a:srgbClr val="cc3300"/>
                </a:solidFill>
                <a:latin typeface="Moder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variable of P is assigned a security level in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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: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formation at a   given security level does not flow to low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3200" y="23796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Security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3" idx="3"/>
            <a:endCxn id="43" idx="3"/>
          </p:cNvCxnSpPr>
          <p:nvPr/>
        </p:nvCxnSpPr>
        <p:spPr>
          <a:xfrm>
            <a:off x="8384760" y="3103200"/>
            <a:ext cx="1080" cy="1080"/>
          </a:xfrm>
          <a:prstGeom prst="straightConnector1">
            <a:avLst/>
          </a:prstGeom>
          <a:ln w="28440">
            <a:solidFill>
              <a:srgbClr val="cc3300"/>
            </a:solidFill>
            <a:miter/>
          </a:ln>
        </p:spPr>
      </p:cxnSp>
      <p:cxnSp>
        <p:nvCxnSpPr>
          <p:cNvPr id="46" name=""/>
          <p:cNvCxnSpPr/>
          <p:nvPr/>
        </p:nvCxnSpPr>
        <p:spPr>
          <a:xfrm>
            <a:off x="3317400" y="3452400"/>
            <a:ext cx="1080" cy="1080"/>
          </a:xfrm>
          <a:prstGeom prst="straightConnector1">
            <a:avLst/>
          </a:prstGeom>
          <a:ln w="28440">
            <a:solidFill>
              <a:srgbClr val="cc3300"/>
            </a:solidFill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EFFD3-883F-4AD7-828B-4B88F2B5EB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00200" y="1262160"/>
            <a:ext cx="7840440" cy="47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[PC] 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j 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, M, (0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· S, IPD &gt;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+1,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up(M),up(S), IPD’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d(PC)  i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L  and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H, (an high implicit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D’=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begi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D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(M) upgrades the value of the variables assigned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ope of the implicit flow beginning at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(S) upgrades all elements in the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8000" y="24408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ransition relation rul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1488960" y="35416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2F920-F9C9-4460-B0E7-CB585C1FEB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07920" y="1293840"/>
            <a:ext cx="7427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consta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V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cript MT Bold"/>
              </a:rPr>
              <a:t>=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{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 }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security levels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cript MT Bold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Values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V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: V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  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Addresses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cript MT Bold"/>
              </a:rPr>
              <a:t>=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Memories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M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: var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(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A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Stacks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S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: (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A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)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*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Environments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E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=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E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=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States: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A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M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S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(A </a:t>
            </a:r>
            <a:r>
              <a:rPr b="0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{ 0 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8000" y="25416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bstract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311E9-0AFD-4989-97EA-8B2441CA2F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bstract operational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595440" y="1362240"/>
            <a:ext cx="7750080" cy="43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he abstract seman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bstracts concrete values into their security level: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k,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)=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ses the sam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les of the concrete semantics on the abstract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(P) : abstract transition system for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in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ultipl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ach path of C(P) is correctly abstracted onto a path of A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7C402-CE68-4017-96A2-B3EEC59BC9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7000" y="20484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Result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2979720" y="4570560"/>
            <a:ext cx="2535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880" y="2274840"/>
            <a:ext cx="808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5440" y="1050840"/>
            <a:ext cx="8080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heorem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 program  P  satisfies  SIF  if for each state of A(P) such that  </a:t>
            </a: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P[PC] = hal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, then for each x : L it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M[x] = 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M[x]=(i, L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for some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2600" y="1633680"/>
            <a:ext cx="7924680" cy="3390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E23A2-90E5-4595-AC91-C4D336CFC0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7000" y="20484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Result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2979720" y="4570560"/>
            <a:ext cx="2535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6880" y="2274840"/>
            <a:ext cx="808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065240"/>
            <a:ext cx="80787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heorem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 program  P satisfies  TERM  if  each state of A(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, M, S, IPD &gt;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ch  that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 = H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does not belong to a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1773360"/>
            <a:ext cx="7763040" cy="2638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31D0A-9F3D-49C6-A6F3-E349FD6F53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Result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2979720" y="4570560"/>
            <a:ext cx="2535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6880" y="2274840"/>
            <a:ext cx="808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0240" y="1289160"/>
            <a:ext cx="77187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heorem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 program P  satisfies  TIME 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l paths in  A(P)  starting from a state satisfying TOP(S)=H and P[PC] = if and ending with a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atisfying  PC=ipd(i)  </a:t>
            </a: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have the same length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l paths in  A(P)  starting from a state satisfying P[PC]= ret x and M[x]=(j,H)   where  and ending with a state satisfying PC=ipd(i) </a:t>
            </a: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have the same 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640" y="1844640"/>
            <a:ext cx="7594560" cy="3954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0BF92-EC61-4308-ABE9-1CC731F807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6600" y="2725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mic Sans MS"/>
              </a:rPr>
              <a:t>Implementation in SMV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547560" y="1654200"/>
            <a:ext cx="80805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V model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ripk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L log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pecifications = assertions on the state variables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nd on the paths of the system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B612-E747-4107-896C-EAC1B96FF2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96600" y="2725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mic Sans MS"/>
              </a:rPr>
              <a:t>Implementation in SMV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498600" y="1459080"/>
            <a:ext cx="8080200" cy="44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Courier New"/>
              </a:rPr>
              <a:t>SIF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Courier New"/>
              </a:rPr>
              <a:t>x in L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AG ((PC = i) and P[PC]= hal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((MEM[x]=L) or (MEM[x]=(j,L))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Courier New"/>
              </a:rPr>
              <a:t>TERM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G(((PC = i)and(ENV=H))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AG(PC != i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966DE-1A67-44C0-9E5A-969C113FA6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Related Work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571680" y="999720"/>
            <a:ext cx="841032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ng approaches (Volpano 96, .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being semantics based, our approach is fin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we certify               h=l; l=h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mantic approach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zuno and Schmidt 92: based on denotational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oshi and Leino 2000: based on axiomatic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Since our model is based on operational semantic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it is fully automatic. Moreover it can be integrated with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model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el checking approach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Bibier et al. 2001: secure applet interaction (smart ca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164F4-DBAA-4792-B417-5A792F9729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1800" y="2059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Secure Information Flow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920960" y="163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59080" y="19162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2560" y="1063800"/>
            <a:ext cx="7958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S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al value of each variable does not depend on the initial value of variables  with higher or not related security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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  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Explicit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=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mplicit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h) l=5; else sk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C3834-4D8A-455A-BF81-2DF9579717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ermination Agreement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1920960" y="163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59080" y="19162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3280" y="1473120"/>
            <a:ext cx="7958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t is not possible to leak high information by observing the termination of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h &gt; 0) do ski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51EA7-A27B-4683-9102-A4C486F143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iming Agreement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920960" y="163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59080" y="19162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3280" y="1473120"/>
            <a:ext cx="79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t is not possible to leak high information by observing the number of instruction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h1 == 0) { h2=1; skip; } else h2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BDD4A-F263-4169-9D8A-8F8F7E0E6B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5960" y="2059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Previous Work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1920960" y="163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59080" y="19162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1473120"/>
            <a:ext cx="778356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ulation of secure information flow (Denning 76, Andrews       and Reitman 80, Banatre et al.  94, .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ng approaches (Volpano et al. 96, .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mantic approaches (Mizuno and Schmidt 92, Joshi and Leino 2000, 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vert flows ( Lampson 73, Volpano et al. 97, .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all approaches are defined on structured high level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5D55-1FDC-436D-AFD9-5D06F0804A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6960" y="210960"/>
            <a:ext cx="7737480" cy="5860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Stack Based Assembly Languag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706320" y="1132200"/>
            <a:ext cx="778680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 are manipulated using a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anguage is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not struct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 Virtual Machin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ownloa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y the internet and executed by web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acc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user private data to compute som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le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leakag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user private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ss control can be too restri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264EC-5972-4810-AD16-870D11821E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9680" y="407520"/>
            <a:ext cx="7737480" cy="5857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 simple instruction set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674640" y="1441440"/>
            <a:ext cx="7786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op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op two operands off the stack, perform the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peration,  and push the result onto the stack</a:t>
            </a: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pop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scard the top value from the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push k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ush the constant  k  onto the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load x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ush the value of variable  x  onto the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store x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op off the stack and store the value into 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if j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op off the  stack and jump to  j  if non-ze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goto j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jump to   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jsr j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t address  p, jump to address  j  and push p+1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nto the operand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ret x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jump to the address stored in 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halt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3A415-AC1C-40B1-8409-3B6B7EB3E2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0120" y="2599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Information Flow in Stack Based Assembly Languag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801720" y="1029960"/>
            <a:ext cx="735480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Explicit information fl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high level languages immediate by examining assignment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n assembly langauges a pop instruction does not syntactically reveal the source of th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 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2B102-F29E-4133-AC53-2D97CA314A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6T14:36:51Z</dcterms:created>
  <dc:creator>Dipartimento di Ingegneria</dc:creator>
  <dc:description/>
  <dc:language>en-US</dc:language>
  <cp:lastModifiedBy>cinzia bernardeschi</cp:lastModifiedBy>
  <cp:lastPrinted>2002-01-18T13:28:53Z</cp:lastPrinted>
  <dcterms:modified xsi:type="dcterms:W3CDTF">2002-01-18T15:43:24Z</dcterms:modified>
  <cp:revision>595</cp:revision>
  <dc:subject/>
  <dc:title>Specifica (modello) di un sistema</dc:title>
</cp:coreProperties>
</file>