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C206-FD4D-4155-BD6A-F0DEC81BC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081F-8EE2-455F-A1C4-EB874D63C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94F3-8314-4078-B7CB-F83C9AB77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FA75-7DAC-429E-A0BF-AC5C75ECB0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D877-F25D-4E67-ACAE-4DF4D2397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7C4C-0137-4484-B5EA-B83D39B3A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3A21-0B15-491F-A9F8-30F8FA5F5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C2B7-4E48-4AB3-83B2-300CC0593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C09E-92EC-48C3-9631-C4690B147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9D62-37D4-45DC-B35F-8EB7513E6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6E96-03AE-4002-8EEC-5B54D4910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8748-4AC5-44AD-BBA2-AEB543A6A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696-1FFD-4322-BE20-9181660F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Abstract Interpretation 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erto Barbuti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5192640"/>
            <a:ext cx="653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# Dipartimento di Informatica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 Dipartimento di Ingegneria della Informazione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384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 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50880" y="933480"/>
            <a:ext cx="759924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and Reitman 80, Banatre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it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hecking (Bibier et al. 2001 Bernardeschi De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ncesco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857C-3B09-49E6-AC9C-D8CA678161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3120" y="1622520"/>
            <a:ext cx="76006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ti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54C6-0D4A-46AF-B9F8-EF99EC47C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106380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800" y="1322280"/>
            <a:ext cx="8115120" cy="14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7025-FF86-418C-BF33-F88A2F4EB8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22360" y="2165400"/>
            <a:ext cx="793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recording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taking only what concerns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6323-89ED-4F2C-AD88-A4542D82AE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1230480"/>
            <a:ext cx="80182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annotat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dicates the least upper bound of the security levels of the information flows, both explicit and implicit, on which k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epresents the least upper bound of the security levels of the open implicit flows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s (possibly)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 branching instruction begins and is (possibly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ll branches jo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4F03-1327-4D4B-AB69-48535966BB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-360"/>
            <a:ext cx="7737480" cy="7491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01640" y="933480"/>
            <a:ext cx="8018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560" y="4854600"/>
            <a:ext cx="80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has secure information flow  if in each final state of A(P), each x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olds a value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880" y="4653000"/>
            <a:ext cx="8034480" cy="1193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388F-CA1A-4F74-9F01-C157842C4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04800" y="873720"/>
            <a:ext cx="79837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x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uage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m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are allowed to any program point and the stack may be manipulated in different ways by the branches of a branching 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notion of immediate postd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85AC-0662-4445-BE6C-04FBA4F42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0360" y="1147680"/>
            <a:ext cx="7918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a st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environment, PC = program counter, M = mem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= operand stack, IPD = ipd stack (holds the ipds of open branching instruction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0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transition rul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2440" y="3327480"/>
            <a:ext cx="8521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the rule for 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PC]:load x, M[x]=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P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P(I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,M,S,IPD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+1,M,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(k,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·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680" y="3233880"/>
            <a:ext cx="8294400" cy="2530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3742-8C0D-44EB-AFA3-D2B987B0A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41440" y="1671480"/>
            <a:ext cx="8602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Abstract Interpretation of Operational Semantics for Secure Information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 appear on Information Processing Le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hecking Security of Java Bytecode by Abstract Interpr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cial Track on Security at the ACM Sympos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 Applied Computing (SAC2002), March 10-14, Spain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2840" y="434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ork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C6D5-8FFE-46D3-8899-A049008757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Administrator</cp:lastModifiedBy>
  <dcterms:modified xsi:type="dcterms:W3CDTF">2002-01-17T14:04:43Z</dcterms:modified>
  <cp:revision>577</cp:revision>
  <dc:subject/>
  <dc:title>Specifica (modello) di un sistema</dc:title>
</cp:coreProperties>
</file>