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173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666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666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173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6173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6173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173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nergy S.r.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sulenza Finanziaria alle Imp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000" y="45720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ROALIMENTAR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sempio di limitazioni dalla circolar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onna a                 colonn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846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5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duzione di succhi di frutta ed or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5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vorazione e conservazione di frutta e or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5320" indent="-86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a conservazione di frutta, frutta a guscio od ortaggi: congelamento, surgelazione, essiccazione, immersione in olio  o in aceto, inscatolamento,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5320" indent="-86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a fabbricazione di prodotti alimentari a base di frutta o di orta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5320" indent="-86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a fabbricazione di confetture, marmellate e gelatine di frutt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1371240"/>
            <a:ext cx="37846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177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rtofru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120" indent="-177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vestimenti per l'ammodernamento tecnologico degli impianti di condizionamento e trasformazione;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120" indent="-177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vestimenti mirati alla realizzazione/adeguamento di piattaforme log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120" indent="-177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vestimenti finalizzati all'adeguamento degli impianti ai sistemi di gestione della qualità in base alle norme Iso 9000 e ai sistemi di gestione ambientale, norme Iso 14000;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120" indent="-177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vestimenti diretti a ristrutturare ed incrementare la capacità di trasformazione  per prodotti innovativi;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120" indent="-177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vestimenti diretti a ristrutturare ed incrementare la capacità di trasformazione per prodotti non vincolati da quote;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1360" y="685800"/>
            <a:ext cx="7619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7324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RESE DI SERVI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D.M. 8.5.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-27324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ense e fornitura di pasti preparati (55.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-27324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ttività di supporto e ausiliarie dei trasporti (6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-27324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ecomunicazioni, compresa la ricezione, registrazione, amplificazione, diffusione, ecc. di segnali e dati da e per lo spazio e la trasmissione di spettacoli radiotelevisivi non in ambito nazionale (64.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-27324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formatica (7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-27324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icerca e sviluppo (7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-27324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Studi legali (74.11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tabilità e consulenza societaria, fiscale e del personale (74.12); studi di mercato (74.13); consulenza amministrativo-gestionale (74.14); architettura, ingegneria e altre attività tecniche (74.20); collaudi e analisi tecniche e problematiche della qualità e dell’ambiente (74.30);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pubblicità (74.40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; ricerca e selezione del personale (74.50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_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1360" y="11430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700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vigilanza privata (74.60.1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laboratori fotografici (74.81.2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aerofotocinematografia (74.81.3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imballaggio e confezionamento (74.82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servizi congressuali (74.83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design e stiling (74.84.5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segreteria telefonica e call center (74.84.6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Istruzione secondaria di formazione professionale (80.22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scuole e corsi di formazione speciale (80.30.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Raccolta e smaltimento rifiuti solidi industriali e commerciali (90.00.1)</a:t>
            </a: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smaltimento e depurazione acque di scarico di origine industriale (90.00.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Produzione radio-televisiva  non  in ambito nazionale (9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524"/>
              </a:spcBef>
              <a:buClr>
                <a:srgbClr val="0000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Lavanderie industriali (93.01.1)_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09000" y="727200"/>
            <a:ext cx="4755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IMPRESE DI SERVI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7960" y="1542960"/>
            <a:ext cx="802656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732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essi criteri delle imprese estrattive e manifattur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2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52360">
              <a:spcBef>
                <a:spcPts val="601"/>
              </a:spcBef>
              <a:buClr>
                <a:srgbClr val="000000"/>
              </a:buClr>
              <a:buFont typeface="Marlett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utilizzo dei beni nei cantieri ubicati nelle aree agevolabili di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’unica region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indicata dall’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52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ede operativa (reg. impr.) nella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52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egistro aggiornato ubicazione b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52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un libro matricola per ciascun cant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52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ichiarazione d’impegno dell’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52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isura agevolativa minima della regione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1943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ff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tilizzo dei beni per 5 anni in un’unica unità produttiv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960" y="2743200"/>
            <a:ext cx="81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ff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tilizzo dei beni per 5 anni nei cantieri, al di fuori di un’unica unità produttiv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45720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IMPRESE DI COSTRU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D.M. 8.5.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37120" y="13716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Z. “F” CLASSIF. ISTAT ‘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07960" y="743040"/>
            <a:ext cx="8026560" cy="51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IMPRESE DI PRODUZIONE DI ENERGIA ELETTRICA E CALOR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(D.M. 8.5.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"/>
              <a:tabLst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Z. “E” CLASSIFICAZ. ISTAT ‘9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mitatamente alle class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40.10 e 40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"/>
              <a:tabLst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LO IMPIANTI ALIMENTATI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ONTI RINNOVABILI : sole, vento, energia idraulica, risorse geotermiche, maree, moto ondoso, trasformazione di rifiuti organici e inorgabici e prodotti vegetal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ASSIMILATE: impianti di cogenerazione (produzione combinata di energia elettrica e calore), utilizzo di calore di risulta, fumi di scarico, scarti di lavorazione, fonti fossili da giacimenti minori iso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Marlett" charset="2"/>
              <a:buChar char=""/>
              <a:tabLst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TENZ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50 MW ELET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601"/>
              </a:spcBef>
              <a:buNone/>
              <a:tabLst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Marlett" charset="2"/>
              <a:buChar char=""/>
              <a:tabLst>
                <a:tab algn="l" pos="48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CE ENERGETIC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(CIP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9.4.92)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0,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06440" y="1886040"/>
            <a:ext cx="8128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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IVITA’ RICET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72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GH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TTACA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72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PER F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72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LLAGG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TELLI GI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72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PEGG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72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FUGI ALP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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ZIE DI VIAG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0">
              <a:lnSpc>
                <a:spcPts val="0"/>
              </a:lnSpc>
              <a:spcBef>
                <a:spcPts val="799"/>
              </a:spcBef>
              <a:buNone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"/>
              <a:tabLst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RE ATTIVITA’ INDICATE DALLE REG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960640"/>
                <a:tab algn="l" pos="31399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entri congressuali, porti e approdi turistici, campi di golf, impianti a fune, turismo rurale, country house, parchi di divertimento, ecc.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549360"/>
            <a:ext cx="65530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LE IMPRESE TURIS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che svolgono l’attività turi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60" y="685800"/>
            <a:ext cx="8636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200240"/>
            <a:ext cx="802656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LO ATTIVITA’ DI RILEVANTE INTERESSE PER LO SVILUPPO DEL COMMER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MOZIONE DEI PROCESSI DI CONCENTRAZIONE ED ACCRESCIMENTO DIMENSIONALE DELLE IMPRESE COMMER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ENTIVARE GLI ESERCIZI DI MAGGIORE DIMEN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VORIRE I PROGRAMMI DI ACCORP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IMOLARE E PROMUOVERE L’ASSOCIAZIONISMO ECONO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47640" y="404640"/>
            <a:ext cx="82807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960" y="1085760"/>
            <a:ext cx="8026560" cy="55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ESERCIZI DI VENDITA AL DETTAG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9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sercizi di vicina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9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die strut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9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ndi strut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5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ESERCIZI DI VENDITA ALL’INGRO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5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ENTRI DI DISTRIB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4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MMERCIO ELETTRO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4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VENDITA PER CORRISPONDEN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4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buClr>
                <a:srgbClr val="ff33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SERVIZI COMPLEMENT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5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0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5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6440" y="457200"/>
            <a:ext cx="828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914400"/>
            <a:ext cx="802656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ESERCIZI DI VENDITA AL DETTAG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SERCIZI DI VICINAT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ercizi di vendita al dettaglio di piccola dimens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superficie di vendita fino 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150 mq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comuni con residenti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superficie di vendita fino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250 mq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in comuni con residenti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 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OLO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99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 centri commerc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centri commerciali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= struttura a destinazione specifica che ospita più esercizi commerciali, con autorizzazione amministrativa all’apertura, con infrastrutture e servizi comuni gestiti unit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dichiarazione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titolare autorizzazione comunale attestante l’inserimento, esistente o futuro, dell’esercizio di vicinato nel c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7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2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6440" y="685800"/>
            <a:ext cx="828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257480"/>
            <a:ext cx="802656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ESERCIZI DI VENDITA AL DETTAGLI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se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EDIA STRU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n superficie di vendit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uperiore a 150 e inferiore a 1.500 mq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n comuni con resident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n superficie di vendit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uperiore a 250 e inferiore a 2.500 mq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n comuni con resident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 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GRANDE STRU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n superficie di  vendit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 1.500 mq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n comuni con resident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n superficie di vendit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 2.500 mq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n comuni con resident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 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perficie di vendit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= area di vendita con esclusione di magazzini, depositi, locali di lavorazione, uffici e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4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4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93760" y="691920"/>
            <a:ext cx="7950240" cy="51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SETTORI AMMISSIBI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-366480">
              <a:spcBef>
                <a:spcPts val="901"/>
              </a:spcBef>
              <a:buClr>
                <a:srgbClr val="000000"/>
              </a:buClr>
              <a:buSzPct val="80000"/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RATTIVO e MANIFATTUR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-366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IZ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olo società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.M. 22.7.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IA, VAPORE e ACQUA CAL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.M. 22.7.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ISTIC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nanziaria ‘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nanziaria ‘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6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32000" y="260280"/>
            <a:ext cx="6985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028880"/>
            <a:ext cx="802656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ESERCIZI DI VENDITA ALL’INGROSSO E CENTRI DI DISTRIB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esercizi di vendita all’ingrosso: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acquisto di merci in nome e per conto proprio e rivendita ad altri commercianti all’ingrosso o al dettaglio o ad utilizzatori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centri di distrib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n superficie dell’unità local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 1.000 m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gestiti da singole imprese commerciali o da strutture operative dell’associazionismo economico (unioni volontarie o gruppi di acqui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MMERCIO ELETTRO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VENDITA PER CORRISPONDENZA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6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1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6440" y="571680"/>
            <a:ext cx="828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28880"/>
            <a:ext cx="802656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SERVIZI COMPLEMEN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CAT (centri di assistenza tecnica) ex art. 23 D.Lvo n. 114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GESTIONE DI CENTRI COMMER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INTERMEDIARI DEL COM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INFORMATICA, CONSULENZA AMM.VA, GESTIONALE, FISCALE, ECC., LOGISTICA, CONTABILITA’, PUBBLICITA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22928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OLO DA STRUTTURE DELL’ASSOCIAZIONISMO ECONOMICO TRA IMPRESE COMMERCIAL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GRUPPI DI ACQUISTO O UNIONI VOLONTAR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6440" y="685800"/>
            <a:ext cx="828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33"/>
                </a:solidFill>
                <a:latin typeface="Times New Roman"/>
              </a:rPr>
              <a:t>IMPRESE DEL COMMERC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960" y="1314360"/>
            <a:ext cx="782316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Times New Roman"/>
              </a:rPr>
              <a:t>ES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farm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- vendita esclusiva di generi di monop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- distributori automatici di carburanti per autotrazione, lubrificanti e oli minerali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7440" y="1125000"/>
            <a:ext cx="80265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I PROGRAMMI AMMISS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OL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M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I INVESTIMENT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GANICI E FUNZIONAL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business 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7 TI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306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UOVO IMPIA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3063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MPL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8760" indent="-19044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utti: aumento occupazione + capacità produ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8760" indent="-1904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mmercio: esercizi di vicinato, vendita al dettaglio e all’ingrosso: aumento occupazione + superficie di vendita &gt;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8760" indent="-1904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mmercioelettronico e vendita per corrispondenza: solo aumento occu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87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3063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MMODERNAMENT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novazione, ecologia, produttività, e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urismo: migliore qualità offerta tur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O PER IL COMMERCIO (eccetto i servi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142640"/>
            <a:ext cx="792324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Monotype Sorts" charset="2"/>
              <a:buChar char="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ATTIV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zzo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 la medesima attivit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di una struttura esistente inattiva da almen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ue ann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PER IL COMMERCIO (eccetto i servi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ONVER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ica dell’attività in struttura “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nzionan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 che non ha cessato l’attività nei due anni prece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PER IL COMMERCIO (eccetto i servi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STRUTTURAZI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organizzazione, rinnovo, aggiornamento dell’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PER IL TUR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O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o servizi e vicina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modifica della formula distributiva o della merceolog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S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io localizzazione per insufficienza di spazi, riassetto urbanistico, ambientale, ecc.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1480" y="571680"/>
            <a:ext cx="56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PROGRAMMI AMMISSI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120" y="742680"/>
            <a:ext cx="7823160" cy="53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99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LE SPESE AMMISS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-3996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150000"/>
              <a:buFont typeface="Monotype Sort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PROGETTAZIONI, STUDI, ECC. progettazioni strutturali e impiantistiche, direzione dei lavori, valutazioni di impatto ambientale, studi di fattibilità tecnico-economico-finanziari, certificazioni di qualità (ISO 9001) e ambientali (ISO 14001 e EMAS), collaudi di legge, oneri per concessioni edilizie, quota iniziale dei contratti di franchising (turismo e commerci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0">
              <a:lnSpc>
                <a:spcPts val="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-3996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150000"/>
              <a:buFont typeface="Monotype Sort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TERRENO E SUE SISTEMAZIONI (comprese indagini geognostich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0">
              <a:lnSpc>
                <a:spcPts val="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-39960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SzPct val="150000"/>
              <a:buFont typeface="Monotype Sort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OPERE MURARIE E ASSIMI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0">
              <a:lnSpc>
                <a:spcPts val="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9600" indent="-3996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150000"/>
              <a:buFont typeface="Monotype Sorts" charset="2"/>
              <a:buChar char="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MACCHINARI, IMPIANTI E ATTREZZATURE (compresi brevetti e programmi informatici)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2520" indent="0">
              <a:lnSpc>
                <a:spcPts val="0"/>
              </a:lnSpc>
              <a:spcBef>
                <a:spcPts val="64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428840"/>
            <a:ext cx="79250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Monotype Sorts" charset="2"/>
              <a:buChar char="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TTE LE SPE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tte o in l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i investimenti fis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critti 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0">
              <a:lnSpc>
                <a:spcPct val="4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le IMMOBILIZZAZIONI DI BILANCIO 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 i CESPITI AMMORTIZZAB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80000"/>
              </a:lnSpc>
              <a:spcBef>
                <a:spcPts val="601"/>
              </a:spcBef>
              <a:buClr>
                <a:srgbClr val="d82900"/>
              </a:buClr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esclusione dei titoli di spesa inferiori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mil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l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60000"/>
              </a:lnSpc>
              <a:spcBef>
                <a:spcPts val="601"/>
              </a:spcBef>
              <a:buClr>
                <a:srgbClr val="d82900"/>
              </a:buClr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amenti per contanti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Monotype Sorts" charset="2"/>
              <a:buChar char="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GETTAZIONI, STUDI, ECC.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la spesa ammessa to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le Grandi Imprese sono ammes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ettazio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tturali e impiantis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hising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ristiche e com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28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à e ambien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N DA 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REN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la spesa ammessa totale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85800"/>
            <a:ext cx="7620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SPESE </a:t>
            </a:r>
            <a:r>
              <a:rPr b="1" i="1" lang="en-US" sz="3200" spc="-1" strike="noStrike">
                <a:solidFill>
                  <a:srgbClr val="cf0e30"/>
                </a:solidFill>
                <a:latin typeface="Times New Roman"/>
              </a:rPr>
              <a:t>AMMISSIBILI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rincipali limiti e condi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1314360"/>
            <a:ext cx="7823160" cy="47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20000"/>
              <a:buFont typeface="Monotype Sorts" charset="2"/>
              <a:buChar char="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PERE MURARIE E ASSIMILAT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4712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sto di immobili esist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olo se non agevolati ne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an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ecedenti (concessione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e posseduti nei 12 mesi precedenti la domanda d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iu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en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fi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tro il terzo grado: ammess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proporz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gli altri s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mpravendita tra società controllate o collegate (2359 cc) o partecipate per 25% o più da medesimi altri soggetti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sa non ammiss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nel limite del 50% della spesa totale per 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ese tur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471240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l limite del 50% dell’investimento complessivo per le imprese del com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4712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sse intern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OLO  IMPRESE DI COSTRU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ts val="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4712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zi annessi: SOLO IMPRESE TURISTICH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vedi seguito)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628560"/>
            <a:ext cx="73152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LE SPESE </a:t>
            </a:r>
            <a:r>
              <a:rPr b="1" i="1" lang="en-US" sz="3100" spc="-1" strike="noStrike">
                <a:solidFill>
                  <a:srgbClr val="cf0e30"/>
                </a:solidFill>
                <a:latin typeface="Times New Roman"/>
              </a:rPr>
              <a:t>AMMISSIBIL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rincipali limiti e condizioni </a:t>
            </a:r>
            <a:r>
              <a:rPr b="0" i="1" lang="en-US" sz="2700" spc="-1" strike="noStrike">
                <a:solidFill>
                  <a:srgbClr val="3333cc"/>
                </a:solidFill>
                <a:latin typeface="Times New Roman"/>
              </a:rPr>
              <a:t>(segu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11000" y="1542600"/>
            <a:ext cx="7823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ZI ANNESSI (solo imprese turis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o per le strutture ricet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nzionalmente collegati alla struttura principale (stesso comune o adiace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stiti dallo stesso soggetto della struttura princip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 75% dei beni dell’attività ammissib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iscine, ristoranti, bar, market, discoteche, sale congressuali, impianti ricreativi, parcheggi, centri benessere, approdi turistici, punti di ormeggio, …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743040"/>
            <a:ext cx="6399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SPESE </a:t>
            </a:r>
            <a:r>
              <a:rPr b="1" i="1" lang="en-US" sz="3200" spc="-1" strike="noStrike">
                <a:solidFill>
                  <a:srgbClr val="cf0e30"/>
                </a:solidFill>
                <a:latin typeface="Times New Roman"/>
              </a:rPr>
              <a:t>AMMISSIBILI</a:t>
            </a:r>
            <a:r>
              <a:rPr b="1" i="1" lang="en-US" sz="24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ncipali limiti e condizioni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segue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120" y="1428840"/>
            <a:ext cx="7823160" cy="46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Monotype Sorts" charset="2"/>
              <a:buChar char="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CCH., IMP. E ATTREZZ.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zi di trasporto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amm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vetti e software: come immobili esis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vett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 25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la spesa ammessa totale per 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di imp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vett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 per il com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solo per le 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1360" y="628560"/>
            <a:ext cx="68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SPESE </a:t>
            </a:r>
            <a:r>
              <a:rPr b="1" i="1" lang="en-US" sz="3200" spc="-1" strike="noStrike">
                <a:solidFill>
                  <a:srgbClr val="cf0e30"/>
                </a:solidFill>
                <a:latin typeface="Times New Roman"/>
              </a:rPr>
              <a:t>AMMISSIBILI</a:t>
            </a:r>
            <a:r>
              <a:rPr b="1" i="1" lang="en-US" sz="24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ncipali limiti e condizioni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se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571680"/>
            <a:ext cx="8026200" cy="58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500" spc="-1" strike="noStrike">
                <a:solidFill>
                  <a:srgbClr val="000000"/>
                </a:solidFill>
                <a:latin typeface="Times New Roman"/>
              </a:rPr>
              <a:t>LE IMPRESE AMMISSIBILI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condizioni di accesso alle agevolazio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6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olarmente costitu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 iscritte al registro delle impr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 artigiane e individuali non operanti: alla documentazione di spesa ma, subito, partita 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62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l pieno e libero esercizio dei propri diritti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(non in procedura concorsuale o ammin. straordinar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6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 contabilità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er il solo primo bando: dal successivo periodo d’impo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62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 capitale proprio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62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iccole, medie o grandi (U.E.)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7417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LE SPESE NON AMMISSIBIL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zzi di trasporto, macchinari usati, manutenzioni, ricambi, scorte, spese di gestione, e simili, tutte le commesse interne (per le imprese turistiche e del commercio) o quelle relative alle sole opere murarie (per le imprese estrattive, manifatturiere, servizi, energ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51824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ORRENZA DI AMMISSIBILITA’ DELLE SP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uove doma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lo nell’ambito di programmi avviati dopo la presentazione della domand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principio dell’ AGGIUNTIVITA’ DELL’AIU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10920" y="90756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PROCEDURE (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.M. :fissa i termini per la presentazione delle doman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ve possibile: il termine iniziale segue quello finale preced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bandi all’an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uno per settore “indust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uno per turismo e com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ts val="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524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l termine iniziale: MODULO con cau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ts val="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524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tro il termine final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(insieme o separatamente dal Modulo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CHEDA TECNICA, BUSINESS PLAN  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TUTT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L’ALTRA DOCUMENTAZION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elenco allegato alla circolar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a della domanda alla regione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09120" y="857160"/>
            <a:ext cx="762012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MITI PER LA PRESENTAZIONE DELLE DO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sola domanda per ciascun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olo programma per ciascuna do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domanda per ciascuna unità produt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vietata una nuova domanda per uno stesso programma già agevolato nella misura richi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consentita una nuova domanda per un programma già agevolato parzialmente solo dopo rinu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sola domanda per tutti i programmi della stessa tipologia nella stessa unità produttiva e nello stesso b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120" y="857160"/>
            <a:ext cx="782316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649"/>
              </a:spcBef>
              <a:buNone/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o un programma agevolato si può presentare una nuova domanda solo dopo 6 mesi dalla prima e dopo il relativo 1° 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l precedente programma agevolato è un nuovo impianto, si può presentare la nuova domanda dopo l’ultimazione del nuovo impia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vietata una domanda relativa a un programma o  a beni già agevolati su altre normative se non dopo la  rinuncia alle agevolazioni otte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condizioni devono sussistere alla data di chiusura dei termini di presentazione delle domande, pena la invalidità.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1444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MITI PER LA PRESENTAZIONE DELLE DOMANDE (se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99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PROCEDURE (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f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nda 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59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CA CONCESSIONARIA        (nel caso di sole spese diret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59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TITUTO COLLABORATORE  (nel caso di spese in lea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ccomandata a/r, posta celere, corriere, a 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venz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inistero- B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venz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anche-Istituti collaborat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’istituto collaboratore non ha compiti istruttori e trasmette la domanda alla banca concessionaria entro 5 giorni dal rice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’impre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egli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banca e l’istituto collabo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scelta è indicata sul Modulo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3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l 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-273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’istituto collaboratore è la società di leasing locatrice dei beni da agev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-273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 sola società per ciascun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-273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 programmi onerosi: “p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960" indent="-2739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50000"/>
              <a:buFont typeface="Times New Roman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l pool deve essere formato da società di leasing convenzionate di cui una è capofi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960" indent="-2739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50000"/>
              <a:buFont typeface="Times New Roman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apofila deve essere convenzionata con la banca concessionaria che istruis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960" indent="-27396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50000"/>
              <a:buFont typeface="Times New Roman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li istituti del pool sottoscrivono una specifica conven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-273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spese sono sostenute dalla società di leasing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440" y="800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PROCEDURE 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fas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971640"/>
            <a:ext cx="7925040" cy="51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451"/>
              </a:spcBef>
              <a:buNone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olare costit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eno e libero esercizio dei propri diri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tabilità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a non ancora avv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onibilità dell’im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zione d’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egno a versare il 25% di mezzi prop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333360"/>
            <a:ext cx="68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PROCEDURE 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fas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907920"/>
            <a:ext cx="8127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ONDIZIONI CHE DEVONO SUSSISTERE ALLA DATA DI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PRESENTAZIONE DEL MODUL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645000"/>
            <a:ext cx="7823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ONDIZIONI CHE DEVONO SUSSISTERE ALLA DATA DI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CHIUSURA DEI TERMIN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A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026200" cy="531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ts val="0"/>
              </a:lnSpc>
              <a:spcBef>
                <a:spcPts val="6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ts val="0"/>
              </a:lnSpc>
              <a:spcBef>
                <a:spcPts val="6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ts val="0"/>
              </a:lnSpc>
              <a:spcBef>
                <a:spcPts val="6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5716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nità produttiva in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a depre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art. 27, c. 16 legge finanziaria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- aree obiettivo 1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Basilicata,   Puglia, Campania, Calabria,  Sicilia e Sardeg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- aree obiettivo 2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(centro-n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- aree ammesse al sostegno transitorio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(ex ob. 1, 2 o 5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- aree ammesse alla deroga ex art.  87.3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- aree fuori obiettivo ammesse alla deroga ex art. 87.3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2880" y="685800"/>
            <a:ext cx="79246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LE IMPRESE AMMISSIBILI          </a:t>
            </a: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dizioni di accesso alle agevolaz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11000" y="1268280"/>
            <a:ext cx="782316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a garanzia della volontà di realizzare il programma agevol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da versare prima della doma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u c/corrente banca concession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imes New Roman"/>
              </a:rPr>
              <a:t>VIENE RESTITUITA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la domanda è riti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la domanda non è agevo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la domanda è agevolata parzial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la domanda è agevolata interam. e viene realizzato il 1° 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imes New Roman"/>
              </a:rPr>
              <a:t>VIENE TRATTENUT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la concessione viene revoc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la cauzione restituita è maggiorata di interessi al tasso ufficiale di riferimento della Banca d’Italia (art. 2 D.L.vo n. 213/9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la restituzione avviene entro 30 gg dal provvedimento ministeriale su un conto indicato nella doma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la cauzione può essere sostituita da una garanzia fidejussoria di pari importo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0"/>
            <a:ext cx="7201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 DOCU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ca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770544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’ammontare della cauzione è commisurato agli investimenti da agevolare (come da domand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o fisso di 3,5 milioni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222% fino a 1 miliardo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133% dell’eccedenza fino a 4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56% dell’eccedenza fino a 10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07% dell’eccedenza fino a 50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04% della parte &gt; 50 miliar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451"/>
              </a:spcBef>
              <a:buNone/>
              <a:tabLst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cuni esempi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importi in milioni di lir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imen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6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,7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,3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,2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,0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,4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,8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r" pos="2000160"/>
                <a:tab algn="r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0.00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7,8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76280"/>
            <a:ext cx="4668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 DOCU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a ca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0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2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2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2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23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23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23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23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09480" y="742680"/>
            <a:ext cx="8026560" cy="53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642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12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A TE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6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244440">
              <a:lnSpc>
                <a:spcPct val="90000"/>
              </a:lnSpc>
              <a:spcBef>
                <a:spcPts val="550"/>
              </a:spcBef>
              <a:buClr>
                <a:srgbClr val="cf0e30"/>
              </a:buClr>
              <a:buFont typeface="Monotype Sorts" charset="2"/>
              <a:buChar char="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OFTWAR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MINISTERIALE PER SCHEDA TECNICA E PARTE NUMERICA DEL BUSINESS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PPY DISK (n. 2 cop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7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IA ATTI/CONTRATTI PIENA DISPONIBI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7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TINAZIONE D’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7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CRIZ. REGISTRO IMP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7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RA DOCU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90000"/>
              </a:lnSpc>
              <a:spcBef>
                <a:spcPts val="649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IC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ODUL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ER TUTTI I SETT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90000"/>
              </a:lnSpc>
              <a:spcBef>
                <a:spcPts val="649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CHEDA TECN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ER CIASCUN SETTORE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6440" y="628560"/>
            <a:ext cx="66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 DOCU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A TE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71280" y="260280"/>
            <a:ext cx="7823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3000" indent="0">
              <a:spcBef>
                <a:spcPts val="700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BLIGATORIA PER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BLIGATORIA P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servizi, turismo e commercio: con investimenti &gt; 1 miliar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estrattive, manifatturiere, energia e costruzioni: con investimenti  &gt; 3 mili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0480" y="800280"/>
            <a:ext cx="46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 DOCU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09640" y="2000160"/>
            <a:ext cx="47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PARTE DESCRIT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27920" y="34290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PARTE NU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06440" y="114300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l business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14360" y="1147680"/>
            <a:ext cx="4051440" cy="5191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it-IT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i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 s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risorse finan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org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sp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 prod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erc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indicatori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1080" y="1147680"/>
            <a:ext cx="3853080" cy="5191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dati iniz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3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imi due bila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3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add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3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aglio crediti/deb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3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rta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3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zioni e p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petti f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3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 econo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88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 patrimon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spcBef>
                <a:spcPts val="26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si finanz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o all’anno a regime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22560" y="54936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</a:rPr>
              <a:t>IL BUSINES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9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7823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5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TTENZIONE ! !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 LA PRESENTAZIONE DEL MODULO ED IL TERMINE FINALE DI PRESENTAZIONE DELLE DOMANDE, GLI INVESTIMENTI NON POSSONO AUMENT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ts val="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80000"/>
              </a:lnSpc>
              <a:spcBef>
                <a:spcPts val="649"/>
              </a:spcBef>
              <a:buClr>
                <a:srgbClr val="669900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 IL TERMINE FINALE DI PRESENTAZIONE DELLE DOMANDE E LA PUBBLICAZIONE DELLE GRADUATORIE, GLI INVESTIMENTI NON POSSONO DIMINUIRE E NON SI POSSONO MODIFICARE I DATI DEGLI INDICAT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ct val="1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1573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488 NON E’ CUMULABILE CON ALTRI AIUTI DI STATO SUI MEDESIMI BENI CHE SIANO TALI DA CONCORRERE ALLA DECISIONE SULLA AGEVOLAZIONE RICHIES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0">
              <a:lnSpc>
                <a:spcPct val="1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480" y="857160"/>
            <a:ext cx="802656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494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 DOCU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-249480">
              <a:lnSpc>
                <a:spcPct val="60000"/>
              </a:lnSpc>
              <a:spcBef>
                <a:spcPts val="649"/>
              </a:spcBef>
              <a:buClr>
                <a:srgbClr val="cc000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la chiusura dei termini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IFICA COMPLET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-249480">
              <a:lnSpc>
                <a:spcPct val="90000"/>
              </a:lnSpc>
              <a:spcBef>
                <a:spcPts val="649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MAND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COMPLE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che di un solo documen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I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-2494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MAND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LE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MESSE ALLA ISTRUTTO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-249480">
              <a:lnSpc>
                <a:spcPct val="90000"/>
              </a:lnSpc>
              <a:spcBef>
                <a:spcPts val="700"/>
              </a:spcBef>
              <a:buClr>
                <a:srgbClr val="cf0e30"/>
              </a:buClr>
              <a:buFont typeface="Monotype Sort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CHIESTE DI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HIARIMENT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spos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o 15 GIORNI SOLARI o la domanda è RESPI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9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PROCEDURE (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f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ts val="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3 MES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ER L’ISTRUTTOR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ANCHE CONCESSIONA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 ME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ER GRADUATORIE E CONCESSIO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INIST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 ME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ER LA PRIMA  EROGAZIONE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09480" y="857160"/>
            <a:ext cx="792504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STRUTTORIA BANC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golarità do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mpletezza docum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tilizzo sw Minis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odulo a sta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stituzione domande invalide o non ammissibili (soggetti o settori) con chiare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chiesta di sole rettifiche errori materiali e irregolarità formali, chiarimenti necessari per istrut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  richiesta integrazione doc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erifica condizioni ammissibi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sistenza patrimoniale/finanziaria impresa e soci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7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7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1028520"/>
            <a:ext cx="8636040" cy="53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762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 disponibilità dell’im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del terreno e/o fabbricato interessato dal pro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risultante da un atto o contratto,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che preliminare (art. 1351 cc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- prop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- diritto reale di go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- lo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- comod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 registrato alla data del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 s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pulat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tramit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blico ufficial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istrato e trascritto (ove previsto dalla legge: artt. 2643, 2645, 2651 cc 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 entro 30 gg lavorativi dal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1360" y="571680"/>
            <a:ext cx="78613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LE IMPRESE AMMISSIBILI</a:t>
            </a:r>
            <a:r>
              <a:rPr b="1" lang="en-US" sz="1800" spc="-1" strike="noStrike">
                <a:solidFill>
                  <a:srgbClr val="cf0e3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condizioni di accesso alle agevolaz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595008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sempio: proprietà, usufrutto,   locazione &gt;9 anni, sentenze, ecc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09480" y="1542600"/>
            <a:ext cx="7925040" cy="45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ilità di sostenere impegni finanziari (misura e tempi) anche in relazione a altri program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lli occupa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atteristiche tecniche impi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onibilità e destinazione d’uso dell’im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ano finanziario di copertura del programma e del capitale d’esercizio secondo “tipiche procedure di deliberazione prestiti bancar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ilità di ricorrere al credito bancario anche in relazione a precedenti esposi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tinenza e congruità spese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476280"/>
            <a:ext cx="8433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TRUTTORIA BAN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9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8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ti utili per gli indicatori tranne % richie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posta spese agevolabili per capitolo e anno s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bocchi di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pacità produttiva impi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vrapposizioni con altri program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edenti  o contest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finanziabilità o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ifica U.E. o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udizio conclu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GATIVO </a:t>
            </a:r>
            <a:r>
              <a:rPr b="1" lang="it-IT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creto di din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SITIVO </a:t>
            </a:r>
            <a:r>
              <a:rPr b="1" lang="it-IT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 graduatoria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55640" y="743040"/>
            <a:ext cx="50529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TRUTTORIA BAN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09480" y="857160"/>
            <a:ext cx="792504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AGEVOL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799"/>
              </a:spcBef>
              <a:buClr>
                <a:srgbClr val="cf0e3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DO PER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% DEGLI INVEST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RA % VARIABILE   con l’ubicazione e la dimen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561"/>
              </a:spcBef>
              <a:buClr>
                <a:srgbClr val="cf0e3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S.L.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ivalente Sovvenzione Lord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equivalenza finanziaria tra spese ed erogazion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1012"/>
              </a:spcBef>
              <a:buClr>
                <a:srgbClr val="cf0e3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S.N.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ivalente Sovvenzione Netto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equivalenza finanziaria tra spese ed erogazioni e tassazione)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7823160" cy="50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0280" indent="-350280">
              <a:lnSpc>
                <a:spcPct val="60000"/>
              </a:lnSpc>
              <a:spcBef>
                <a:spcPts val="2676"/>
              </a:spcBef>
              <a:buClr>
                <a:srgbClr val="cf0e3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 MI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ts val="0"/>
              </a:lnSpc>
              <a:spcBef>
                <a:spcPts val="26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Calabri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: 50ESN (GI) e 50ESN+15ESL (P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Basilicata, Campania, Puglia, Sardegna e Sicili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35ESN (GI) e 35ESN+15ESL (P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ree obiettivo 2 e sost. trans. con deroga ex art. 87.3.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8ESN (GI),   8ESN+6ESL (MI), 8ESN+10ESL (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ree  senza deroga ex art. 87.3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15ESL (PI),    7,5 ESL (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bruzzo e Ob 1 sostegno trans. con deroga art. 87.3.c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20ESN (GI) e 20ESN+10ESL (P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54160" y="6285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AGEVOL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5" dur="5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07600" y="1885680"/>
            <a:ext cx="782316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OGAZIONE IN 2 O 3 QUOTE COSTANTI, RESE DISPONIBILI OGNI 12 MESI, ALLA STESSA DATA DI CIASCUN ANNO, LA PRIMA  31 GIORNI DOPO LA PUBBLICAZIONE DELLA GRADU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65520" y="114300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 AGEVOL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06440" y="971640"/>
            <a:ext cx="8128080" cy="51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’ASSEGNAZIONE DEI FO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499"/>
              </a:spcBef>
              <a:buClr>
                <a:srgbClr val="cf0e3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DUATOR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parate per sett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strattivo + manifatturiero + servizi + energia + costruzio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turis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commerc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cf0e3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 GRADUATORIE REGIONALI ORDINARIE (NO grandi proget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cf0e3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 GRADUATORIE GRANDI PROG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cf0e30"/>
              </a:buClr>
              <a:buFont typeface="Monotype Sort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o a 20 GRADUATORIE REGIONALI SPECIALI (NO grandi progetti)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4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PA / INV 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MENTO DIP/ INV 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CATORE REG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CATORE AMBIE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0608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814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LI INDICA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ZZI PROP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440" indent="-181440">
              <a:spcBef>
                <a:spcPts val="601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O 25% NOM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440" indent="-181440">
              <a:spcBef>
                <a:spcPts val="601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MENTI DEL CAPITAL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440" indent="-181440">
              <a:spcBef>
                <a:spcPts val="601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IMENTI SOCI C/AUMENTO CAPITAL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67040"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LIBER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 PRIMA DELL’EROGAZIONE DELLE AGEVOLAZIONI E PER L’INTERO IMPORTO 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67040"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RSAMENT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 DALL’ANNO SOLARE DI  PRESENTAZIONE DEL MODULO ALLA DATA DI ULTI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67040"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 STATO D’AVANZ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67040"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 MEZZI FRESCH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67040"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MITE CONVERSIONE DI POSTE PREESISTENTI RILEVABILI DAL BILANCIO APPROVATO DELL’ESERCIZIO PRECEDENTE LA PRESENTAZIONE DEL MODUL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finanziamento soci, prestiti obbligazionari, ecc.)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6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2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06080" y="857160"/>
            <a:ext cx="802620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CUP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L’UNITA’ PRODU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L’INIZI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ZA TRA “REGIME” E MEDIA DODICI MESI PRECEDENTI QUELLO DI PRESENTAZIONE DEL MODULO DI DO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TEMPO DETERM. O INDETERM. (libro matrico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I.G. = SI   C.I.G.S. =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-TIME O STAGIONALI= FRAZIONI DI UN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ESE COSTRUZIONI: SOMMA CANTIERI REG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8880" indent="-206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MINUZIONE:  n. OCCUP.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76040" y="800280"/>
            <a:ext cx="34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LI INDIC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0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2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5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8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06080" y="857160"/>
            <a:ext cx="863604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DICATORE REG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BICAZIONE (Comun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0 - 10 p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TTIVITA’ (Divisione ISTA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0 - 10 p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IPOLOGIA (n.i., amm., ampl.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0 - 10 p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NTEGGI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TAL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(1 + 2 +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0 - 30 p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E GRADUATORIE SPECIA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92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settori: (1 + 3) 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0 - 20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92960">
              <a:lnSpc>
                <a:spcPct val="6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aree: (2 + 3)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0 - 20 pu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IORITA’ NON ESPRESS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20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REGIONI ESPRIMONO LE LORO PRIORITA’ ENTRO IL 31 OTT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76040" y="800280"/>
            <a:ext cx="34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LI INDIC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0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2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4" dur="5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63604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312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onibilità dell’immobi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n agglomerati o consorzi industrial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o formale di assegnazione del lotto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ensione ar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i compa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n aree demania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cessione: concessione deman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rinnovo: alla data della do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richiesta di rin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pagamento ca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re rientranti nelle previsioni del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ssione da rinnov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312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 corretta destinazione d’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n relazione all’attività da svolger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3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Marlett" charset="2"/>
              <a:buChar char="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 investimenti superiori ad una data sogli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introdotta dalle “direttive” e differenziata per settore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(sospesa)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04640"/>
            <a:ext cx="822960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LE IMPRESE AMMISSIBIL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condizioni di accesso alle agevolazi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07960" y="685800"/>
            <a:ext cx="80265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CATORE AMBI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MA  PAR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er tu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tificazione EMAS: SI=10p.  NO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tificazione ISO 14001: SI=7p.  NO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seconda parte,  è alternativa alla pr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ONDA PARTE: Sezione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x 7p. (programmi diversi dai Grandi Prog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Monotype Sorts" charset="2"/>
              <a:buChar char="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iminazi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ostanze pericolose (max 3) 3s=7p.  2s=5p.  1s=3p.  0s=0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Monotype Sorts" charset="2"/>
              <a:buChar char="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stituzi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ostanze pericolose (max 3) con altre meno perico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s=3,5p.  2s=2,5p.  1s=1,5p.  0s=0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iminazione+Sostituzione: Max 7 pun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79080" y="628560"/>
            <a:ext cx="34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LI INDIC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4" dur="indefinite" restart="never" nodeType="tmRoot">
          <p:childTnLst>
            <p:seq>
              <p:cTn id="2295" dur="indefinite" nodeType="mainSeq">
                <p:childTnLst>
                  <p:par>
                    <p:cTn id="2296" fill="hold">
                      <p:stCondLst>
                        <p:cond delay="0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7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6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2" dur="500"/>
                                        <p:tgtEl>
                                          <p:spTgt spid="3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914400" y="856800"/>
            <a:ext cx="711216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DU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11216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TO CONCESS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015920" y="857160"/>
            <a:ext cx="7010640" cy="1314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TO INSUFFICIENZA FON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7" dur="indefinite" restart="never" nodeType="tmRoot">
          <p:childTnLst>
            <p:seq>
              <p:cTn id="2348" dur="indefinite" nodeType="mainSeq">
                <p:childTnLst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914400" y="856800"/>
            <a:ext cx="711216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TO NEG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71280" y="83664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E PROCEDURE (1</a:t>
            </a:r>
            <a:r>
              <a:rPr b="1" i="1" lang="it-IT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f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Domande non agevolate o agevolate parzialmente   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(ex art. 6, comma 8 del rego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DOMANDA HA ANCORA UNA POSSIBILITA’ NEL SOLO PRIMO BANDO UTILE SUCC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SERITA AUTOMAT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 agevolate parzialment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 nessuna erogazione, rinuncia all’agevolazione parziale e richiesta inserimento entro 30 gg ultimazione istrutt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 non agevolat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 nessun ademp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manda immu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uova cauzione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11360" y="1052280"/>
            <a:ext cx="843264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ISPONIBILITA’ 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delle agevol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f0e30"/>
              </a:buClr>
              <a:buSzPct val="120000"/>
              <a:buFont typeface="Symbol" charset="2"/>
              <a:buChar char="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 QUOTE COSTANTI, ANNUALI, ALLA  STESSA DATA DI CIASCUN ANNO (la prima 31giorni dopo la pubblicazione della graduato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 QUO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PROGRAMM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4 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sclusi i programmi soggetti a notifica all’U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 QUO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PROGRAMM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4 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ROGAZIONE 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delle agevol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cf0e30"/>
              </a:buClr>
              <a:buSzPct val="150000"/>
              <a:buFont typeface="Symbol" charset="2"/>
              <a:buChar char="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ER STATO D’AVANZ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 QUOTE: 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0% e 100%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 QUOTE: 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3,3%, 66,6% e 100%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f0e30"/>
              </a:buClr>
              <a:buSzPct val="150000"/>
              <a:buFont typeface="Symbol" charset="2"/>
              <a:buChar char="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PRIMA ANCHE IN ANTICIPAZIONE (fidejussione bancaria o polizza assicur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cf0e30"/>
              </a:buClr>
              <a:buSzPct val="150000"/>
              <a:buFont typeface="Symbol" charset="2"/>
              <a:buChar char="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ON FRAZIONABILI O ANTICIP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40000"/>
              </a:lnSpc>
              <a:spcBef>
                <a:spcPts val="1338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richiesta dell’impresa alla b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40000"/>
              </a:lnSpc>
              <a:spcBef>
                <a:spcPts val="1338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verifica banc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40000"/>
              </a:lnSpc>
              <a:spcBef>
                <a:spcPts val="1338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richiesta della banca al ministero per elenchi (15 g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40000"/>
              </a:lnSpc>
              <a:spcBef>
                <a:spcPts val="1338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erogazione del ministero alla b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40000"/>
              </a:lnSpc>
              <a:spcBef>
                <a:spcPts val="1338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trasferimento dalla banca all’impresa (5 gg)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8" dur="indefinite" restart="never" nodeType="tmRoot">
          <p:childTnLst>
            <p:seq>
              <p:cTn id="2409" dur="indefinite" nodeType="mainSeq">
                <p:childTnLst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9" dur="5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500"/>
                                        <p:tgtEl>
                                          <p:spTgt spid="3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3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6" dur="500"/>
                                        <p:tgtEl>
                                          <p:spTgt spid="3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3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823160" cy="57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 PROCEDURE (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f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LTIMAZIONE PRO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tro 24 o 48 mesi dalla concessione provvisoria o, per i programmi soggetti a notifica all’U.E., dal provvedimento relativo agli esiti della notific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o fatti salvi termini più restrittivi per l’utilizzo delle risorse U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CHIARAZIONE ULTIMAZIONE PROGRAMMA (data ultimo titolo di spesa ammissibile) E ENTRATA IN FUNZIONE (anche per blocchi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o 1 mese dall’ulti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ZIONE DI SPE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ntro 6 mesi dall’ultimazione pena rev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9320" indent="-4762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 autentica delle fat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9320" indent="-4762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nchi chiari o respi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9320" indent="-47628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sse inter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ve consent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9320" indent="-4762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azione di pagamento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09120" y="628200"/>
            <a:ext cx="782316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I INDICATORI EFFETTIVI A REGIME NON POSSONO DISCO-STARSI DI OLTRE UN CERTO VALORE RISPETTO ALLE PREVISION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24084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olo: max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24084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a: max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2160" indent="-316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variazioni positive (compen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2160" indent="-316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indicatori convenzionalment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BENI AGEVOLATI NON DEVONO ESSERE DISTRATTI DALL’USO PRIMA DI 5 ANNI DALL’ENTRATA IN F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’EVENTUALE DISTRAZIONE DEVE ESSERE SUBITO COMU-NICATA PER EVITARE UNA REVOCA MA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SPETTO DELLE NORME SUL LAVORO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22520" y="514440"/>
            <a:ext cx="60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 PRINCIPALI CAUSE DI REV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4" dur="indefinite" restart="never" nodeType="tmRoot">
          <p:childTnLst>
            <p:seq>
              <p:cTn id="2515" dur="indefinite" nodeType="mainSeq">
                <p:childTnLst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6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2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7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7" dur="500"/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09120" y="800280"/>
            <a:ext cx="7823160" cy="52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55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-15552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AGEVOLAZIONI PROVVISORIE NON POSSONO AUMENTARE A CONSU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-155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VALORE DELL’INDICE ENERGETICO PER LE IMPRESE DI PRODUZIONE DI ENERGIA ELETTRICA E CALORE NON PUO’ RISULTARE RIDOTTO DI OLTRE IL 5% NEI 5 ANNI DALL’ENTRATA IN F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5520" indent="-155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I ELENCHI FINALI DI SPESA DEVONO RECARE CHIARE DESCRIZIONI DEI BENI, PENA LA INVALIDITA’ DEGLI STESSI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08040" y="74304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TTENZIONE ! !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* DIVIETI E LIMITAZIONI U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200" indent="-22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GROALIME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guardanti prodotti con sufficienti sbocchi di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rcolare M.I.C.A. 900315 del 14.7.2000, allegato 4, lettera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2001: anche POR o P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cune attività sono escluse e tutte le attività ammissibili sono escluse dal cofinanz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notificare con agevolazioni &gt; 12 Meuro o con investimenti &gt; 25 M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200" indent="-22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TTORI SENSIBIL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notifica U.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DERURGICO (solo protezione ambien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NTIERISTICA NAVALE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IBRE SINTETICHE (riduzione significativa della capacità produttiv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2720" indent="-16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UTOMOBILISTICO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6560" y="457200"/>
            <a:ext cx="55407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IMPRESE ESTRATTIVE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MANIFATTUR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257480"/>
            <a:ext cx="8534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SEZIONI “C” e “D” D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LASSIFICAZIONE ISTAT ‘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09120" y="857160"/>
            <a:ext cx="7823160" cy="52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1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ENTRATA A REGIME AVVIEN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 OLTRE 12 MES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ALLA ENTRATA IN F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200000"/>
              <a:buFont typeface="Times New Roman"/>
              <a:buChar char="!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IMPRESA DEVE INVIARE PERIODICHE DICHIARAZIONI ALLA BA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- entro 60 gg dalla chiusura di ciascun esercizio sociale e fino al reg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ts val="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- riguardanti gli S.A.L., i dati per il calcolo degli indicatori e degli scostam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17600" y="685800"/>
            <a:ext cx="36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TTENZIONE ! !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0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ROALIMENTAR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TORI ESCLUSI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9988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5.41.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Fabbricazioni di oli e grassi animali g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roduzione di oli e grassi animali non commestibil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strazione di oli di pesce e di mammiferi mari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5.42.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Fabbricazione di oli e grassi da semi e da frutti oleosi raffi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roduzione di oli vegetali raffinati : produzione di olio di semi di soia, di arachidi, mais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lavorazione degli oli vegetali : soffiatura, cottura, ossidazione, standolizzazione, disidratazione, idrogen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5.42.3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Fabbricazione di grassi animali raf-fi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5.4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Produzione di margarina e di grassi commestibili sim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bbricazione di margari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bbricazione di altri succedanei del burro (creme da spalma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bbricazione di grassi da cucina composti.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ROALIMENTAR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TORI ESCLUSI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9988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6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abbricazione di prodotti amidac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bricazione di amidi di riso, di patate, di granotur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inatura umida del granotur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bricazione di glucosio, sciroppo di glucosio, maltos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bricazione di gluti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bricazione di tapi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7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abbricazione di prodotti per l’alimentazione di animali dome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9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oduzione di sidro e di altri vini a base di fru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9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oduzione di altre bevande fermentate non distil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zione di altre bevande fermentate non distillate, quali ad esempio idromele, sakè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9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abbricazione di malto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3:56:22Z</dcterms:created>
  <dc:creator>Administrator</dc:creator>
  <dc:description/>
  <dc:language>en-US</dc:language>
  <cp:lastModifiedBy>Administrator</cp:lastModifiedBy>
  <dcterms:modified xsi:type="dcterms:W3CDTF">2003-07-11T09:57:52Z</dcterms:modified>
  <cp:revision>46</cp:revision>
  <dc:subject/>
  <dc:title>Legge 598/94 – Art. 11</dc:title>
</cp:coreProperties>
</file>