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6173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666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6173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6173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666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666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6173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6173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6173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6668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6668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6173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666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6173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666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6173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1932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viluppoitalia.it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ynergy S.r.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sulenza Finanziaria alle Impr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icipa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 momento della stipula del contratto di agevolazione, è possibile aver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anticipo pari al 30% del totale dei contribu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restante 70% viene erogato in un'unica soluzione a saldo, una volta completati gli investimenti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stio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  la gestione viene erogato un contributo a fondo perduto pari a un massimo di 5.100 euro per le spese ammissibili effettivamente sostenute nel corso del primo anno di attività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che per la gestione, è possibile richieder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un anticipo pari al 40% delle spese previste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il restante 60% dei contributi viene erogato a saldo, a seguito della presentazione, da parte del beneficiario, della documentazione giustificativa di spesa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istenza tecnic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lla fase di avvio dell'iniziativa è previsto un servizio gratuito di assistenza tecnica per un periodo massimo di un ann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sviluppoitalia.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efono   848 88688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Autoimpiego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– Finalit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2060640"/>
            <a:ext cx="741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vorire l’inserimento nel mondo del lavoro di soggetti privi di occupazione attraverso  la creazione di imprese di piccola dimensione nei settori della produzione di beni, della fornitura di servizi e del com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vità dello strumen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misure incentivanti di cui al presente Titolo sono applicabili nei territori di cui ai nuovi obiettivi 1 e 2 dei programmi comunitari, nelle aree ammesse alla deroga di cui all'articolo 87.3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chi si rivol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giore et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a data di presentazione della do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 occupaz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si precedenti la presentazione della domanda. Si considerano occupati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i lavoratori dipendenti (a tempo determinato e indeterminato, anche part-time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i titolari di contratti di collaborazione coordinata e continuativ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i liberi professionisti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i titolari di partita IV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 artigiani, gli imprenditori, i familiari e i coadiutori di imprenditor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idenz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a data del 1° gennaio 2000 nei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rit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applicazione della normativa (il solo requisito del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en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o all'intero territor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quei comuni che anc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o in pa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icadono nelle aree agevolabil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a si può far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 iniziative possono riguardare qualsiasi settore (produzione di beni, fornitura di servizi, commercio)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no però ESCLUSE le attività che si riferiscono a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zione, trasformazione e commercializzazione di prodotti agricoli trasporti servizi socio-assistenziali e form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vest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imenti non possono superare complessivamente i 25.800 Euro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i investimenti sono finanziabili al 100%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 momento della presentazione della domanda le imprese devono esist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se escl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blic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i e breve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is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strumento dopo un periodo di blocco è stato nuovamente reso operativo da maggio 2003 e quindi ci sono in coda molte domande ancora da istru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mpo per una risposta 6/8 me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99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 agevolazioni finanziari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60%, fino a un massimo di 15.500 euro, viene erogato sotto forma di contributo a fondo perduto, e il restante 40%, fino a un massimo di 10.300 euro, in forma di prestito agevolato, da restituire in 5 anni ad un tasso dell’ 1,5 % circa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13:56:22Z</dcterms:created>
  <dc:creator>Administrator</dc:creator>
  <dc:description/>
  <dc:language>en-US</dc:language>
  <cp:lastModifiedBy>Administrator</cp:lastModifiedBy>
  <dcterms:modified xsi:type="dcterms:W3CDTF">2003-07-11T08:48:02Z</dcterms:modified>
  <cp:revision>49</cp:revision>
  <dc:subject/>
  <dc:title>Legge 598/94 – Art. 11</dc:title>
</cp:coreProperties>
</file>