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7889-4AE5-4F38-98F8-B747EF230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0F5F-7077-40B0-941D-AFED4B9B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FFE2-4615-43FF-A421-1C589C787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ACC7-0ADE-4657-9E8B-54D5388F2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435E-6953-4FFB-A9B2-28FDC91D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FB91-C64A-4A17-95D0-1CBD5FEE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B8F1-2F67-4E83-9999-DBB87B94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4F18-A34E-4F1D-A67C-858B88A3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600D-968B-447F-A480-A791583C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793D-403C-4FC0-8001-EB85D2D4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0A07-4F06-4A46-A04C-65BCFD30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7CFD-A02A-4113-881B-637424BC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BFB7-E636-4BF5-B57E-F195C7BB619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660000"/>
            <a:chOff x="0" y="0"/>
            <a:chExt cx="9144000" cy="6660000"/>
          </a:xfrm>
        </p:grpSpPr>
        <p:pic>
          <p:nvPicPr>
            <p:cNvPr id="42" name="copertina" descr=""/>
            <p:cNvPicPr/>
            <p:nvPr/>
          </p:nvPicPr>
          <p:blipFill>
            <a:blip r:embed="rId1"/>
            <a:stretch/>
          </p:blipFill>
          <p:spPr>
            <a:xfrm>
              <a:off x="561960" y="0"/>
              <a:ext cx="8020080" cy="566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2438280" y="4448160"/>
              <a:ext cx="449604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4654440"/>
              <a:ext cx="91440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2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800" spc="-1" strike="noStrike">
                  <a:solidFill>
                    <a:srgbClr val="b2b2b2"/>
                  </a:solidFill>
                  <a:latin typeface="Arial Black"/>
                </a:rPr>
                <a:t>PUBLIC WLAN ACCESS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6699"/>
                  </a:solidFill>
                  <a:latin typeface="Arial"/>
                </a:rPr>
                <a:t>Il caso Megabeam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28600" y="5895720"/>
              <a:ext cx="8610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073320" y="6352920"/>
              <a:ext cx="2895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ahoma"/>
                </a:rPr>
                <a:t>14 Novembre 200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58720" y="409320"/>
              <a:ext cx="0" cy="457200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9680" y="4117680"/>
              <a:ext cx="891540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572680" y="1780920"/>
              <a:ext cx="0" cy="274320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38280" y="5105160"/>
              <a:ext cx="48769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6" descr=""/>
          <p:cNvPicPr/>
          <p:nvPr/>
        </p:nvPicPr>
        <p:blipFill>
          <a:blip r:embed="rId2"/>
          <a:stretch/>
        </p:blipFill>
        <p:spPr>
          <a:xfrm>
            <a:off x="3000240" y="0"/>
            <a:ext cx="6172200" cy="461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851040" y="3027240"/>
            <a:ext cx="1330200" cy="13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&gt;&gt;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591240"/>
            <a:ext cx="9144000" cy="30492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31687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MODALITA’ DI ACCES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6" descr=""/>
          <p:cNvPicPr/>
          <p:nvPr/>
        </p:nvPicPr>
        <p:blipFill>
          <a:blip r:embed="rId2"/>
          <a:stretch/>
        </p:blipFill>
        <p:spPr>
          <a:xfrm>
            <a:off x="3000240" y="0"/>
            <a:ext cx="6172200" cy="4618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971800" y="457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vantGarde Md BT"/>
              </a:rPr>
              <a:t>MODALITA’ DI ACCE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591240"/>
            <a:ext cx="9144000" cy="30492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984400" y="932040"/>
            <a:ext cx="5940720" cy="368280"/>
            <a:chOff x="2984400" y="932040"/>
            <a:chExt cx="5940720" cy="368280"/>
          </a:xfrm>
        </p:grpSpPr>
        <p:sp>
          <p:nvSpPr>
            <p:cNvPr id="108" name=""/>
            <p:cNvSpPr/>
            <p:nvPr/>
          </p:nvSpPr>
          <p:spPr>
            <a:xfrm flipH="1">
              <a:off x="2984400" y="933480"/>
              <a:ext cx="464832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544880" y="932040"/>
              <a:ext cx="1380240" cy="368280"/>
            </a:xfrm>
            <a:prstGeom prst="rect">
              <a:avLst/>
            </a:prstGeom>
            <a:solidFill>
              <a:srgbClr val="006699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AvantGarde Md BT"/>
                </a:rPr>
                <a:t>Web Ba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96880" y="1117440"/>
            <a:ext cx="8089560" cy="5283360"/>
            <a:chOff x="596880" y="1117440"/>
            <a:chExt cx="8089560" cy="5283360"/>
          </a:xfrm>
        </p:grpSpPr>
        <p:sp>
          <p:nvSpPr>
            <p:cNvPr id="111" name=""/>
            <p:cNvSpPr/>
            <p:nvPr/>
          </p:nvSpPr>
          <p:spPr>
            <a:xfrm flipH="1" flipV="1">
              <a:off x="4723560" y="1447920"/>
              <a:ext cx="3962520" cy="4876560"/>
            </a:xfrm>
            <a:prstGeom prst="flowChartDocumen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596880" y="1117440"/>
              <a:ext cx="3314520" cy="1676160"/>
              <a:chOff x="596880" y="1117440"/>
              <a:chExt cx="3314520" cy="1676160"/>
            </a:xfrm>
          </p:grpSpPr>
          <p:sp>
            <p:nvSpPr>
              <p:cNvPr id="113" name=""/>
              <p:cNvSpPr/>
              <p:nvPr/>
            </p:nvSpPr>
            <p:spPr>
              <a:xfrm>
                <a:off x="907560" y="1422000"/>
                <a:ext cx="2693160" cy="137160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50000">
                    <a:srgbClr val="ffffff"/>
                  </a:gs>
                  <a:gs pos="100000">
                    <a:srgbClr val="eaeaea"/>
                  </a:gs>
                </a:gsLst>
                <a:lin ang="10800000"/>
              </a:gra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96880" y="1117440"/>
                <a:ext cx="3314520" cy="304560"/>
              </a:xfrm>
              <a:prstGeom prst="triangle">
                <a:avLst>
                  <a:gd name="adj" fmla="val 50000"/>
                </a:avLst>
              </a:prstGeom>
              <a:solidFill>
                <a:srgbClr val="eaeaea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15" name="schema1a" descr=""/>
            <p:cNvPicPr/>
            <p:nvPr/>
          </p:nvPicPr>
          <p:blipFill>
            <a:blip r:embed="rId3"/>
            <a:stretch/>
          </p:blipFill>
          <p:spPr>
            <a:xfrm>
              <a:off x="1092240" y="1368360"/>
              <a:ext cx="7518240" cy="50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4648320" y="4546440"/>
              <a:ext cx="152280" cy="167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52680" y="3200400"/>
              <a:ext cx="13716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4432320" y="4552920"/>
              <a:ext cx="22860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4444920" y="4571640"/>
              <a:ext cx="0" cy="16765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6" descr=""/>
          <p:cNvPicPr/>
          <p:nvPr/>
        </p:nvPicPr>
        <p:blipFill>
          <a:blip r:embed="rId2"/>
          <a:stretch/>
        </p:blipFill>
        <p:spPr>
          <a:xfrm>
            <a:off x="3000240" y="0"/>
            <a:ext cx="6172200" cy="461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971800" y="457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vantGarde Md BT"/>
              </a:rPr>
              <a:t>MODALITA’ DI ACCE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984400" y="932040"/>
            <a:ext cx="5940720" cy="368280"/>
            <a:chOff x="2984400" y="932040"/>
            <a:chExt cx="5940720" cy="368280"/>
          </a:xfrm>
        </p:grpSpPr>
        <p:sp>
          <p:nvSpPr>
            <p:cNvPr id="123" name=""/>
            <p:cNvSpPr/>
            <p:nvPr/>
          </p:nvSpPr>
          <p:spPr>
            <a:xfrm flipH="1">
              <a:off x="2984400" y="933480"/>
              <a:ext cx="464832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544880" y="932040"/>
              <a:ext cx="1380240" cy="368280"/>
            </a:xfrm>
            <a:prstGeom prst="rect">
              <a:avLst/>
            </a:prstGeom>
            <a:solidFill>
              <a:srgbClr val="006699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AvantGarde Md BT"/>
                </a:rPr>
                <a:t>Web Ba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6427080" y="990720"/>
            <a:ext cx="119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vantGarde Md BT"/>
              </a:rPr>
              <a:t>ROA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0" y="1206360"/>
            <a:ext cx="9144000" cy="5689800"/>
            <a:chOff x="0" y="1206360"/>
            <a:chExt cx="9144000" cy="5689800"/>
          </a:xfrm>
        </p:grpSpPr>
        <p:sp>
          <p:nvSpPr>
            <p:cNvPr id="127" name=""/>
            <p:cNvSpPr/>
            <p:nvPr/>
          </p:nvSpPr>
          <p:spPr>
            <a:xfrm>
              <a:off x="826920" y="3657600"/>
              <a:ext cx="2538720" cy="1371600"/>
            </a:xfrm>
            <a:prstGeom prst="rect">
              <a:avLst/>
            </a:prstGeom>
            <a:gradFill rotWithShape="0">
              <a:gsLst>
                <a:gs pos="0">
                  <a:srgbClr val="e2ebfc"/>
                </a:gs>
                <a:gs pos="50000">
                  <a:srgbClr val="ffffff"/>
                </a:gs>
                <a:gs pos="100000">
                  <a:srgbClr val="e2ebfc"/>
                </a:gs>
              </a:gsLst>
              <a:lin ang="108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3520" y="3352680"/>
              <a:ext cx="3124080" cy="304920"/>
            </a:xfrm>
            <a:prstGeom prst="triangle">
              <a:avLst>
                <a:gd name="adj" fmla="val 50000"/>
              </a:avLst>
            </a:prstGeom>
            <a:solidFill>
              <a:srgbClr val="d6e4fe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533520" y="1206360"/>
              <a:ext cx="3123720" cy="1676160"/>
              <a:chOff x="533520" y="1206360"/>
              <a:chExt cx="3123720" cy="1676160"/>
            </a:xfrm>
          </p:grpSpPr>
          <p:sp>
            <p:nvSpPr>
              <p:cNvPr id="130" name=""/>
              <p:cNvSpPr/>
              <p:nvPr/>
            </p:nvSpPr>
            <p:spPr>
              <a:xfrm>
                <a:off x="826200" y="1510920"/>
                <a:ext cx="2538000" cy="137160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50000">
                    <a:srgbClr val="ffffff"/>
                  </a:gs>
                  <a:gs pos="100000">
                    <a:srgbClr val="eaeaea"/>
                  </a:gs>
                </a:gsLst>
                <a:lin ang="10800000"/>
              </a:gra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33520" y="1206360"/>
                <a:ext cx="3123720" cy="304560"/>
              </a:xfrm>
              <a:prstGeom prst="triangle">
                <a:avLst>
                  <a:gd name="adj" fmla="val 50000"/>
                </a:avLst>
              </a:prstGeom>
              <a:solidFill>
                <a:srgbClr val="eaeaea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0" y="6591240"/>
              <a:ext cx="9144000" cy="30492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914400" y="1447560"/>
              <a:ext cx="8000640" cy="5169240"/>
              <a:chOff x="914400" y="1447560"/>
              <a:chExt cx="8000640" cy="5169240"/>
            </a:xfrm>
          </p:grpSpPr>
          <p:sp>
            <p:nvSpPr>
              <p:cNvPr id="134" name=""/>
              <p:cNvSpPr/>
              <p:nvPr/>
            </p:nvSpPr>
            <p:spPr>
              <a:xfrm flipH="1" flipV="1">
                <a:off x="4571280" y="1447200"/>
                <a:ext cx="4343400" cy="5105160"/>
              </a:xfrm>
              <a:prstGeom prst="flowChartDocumen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5" name="schema2" descr=""/>
              <p:cNvPicPr/>
              <p:nvPr/>
            </p:nvPicPr>
            <p:blipFill>
              <a:blip r:embed="rId3"/>
              <a:stretch/>
            </p:blipFill>
            <p:spPr>
              <a:xfrm>
                <a:off x="914400" y="1479600"/>
                <a:ext cx="7672320" cy="513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"/>
              <p:cNvSpPr/>
              <p:nvPr/>
            </p:nvSpPr>
            <p:spPr>
              <a:xfrm>
                <a:off x="4267080" y="3276720"/>
                <a:ext cx="3049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419720" y="4724280"/>
                <a:ext cx="304560" cy="171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4343400" y="4723920"/>
                <a:ext cx="0" cy="167652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43400" y="4724280"/>
                <a:ext cx="228600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6" descr=""/>
          <p:cNvPicPr/>
          <p:nvPr/>
        </p:nvPicPr>
        <p:blipFill>
          <a:blip r:embed="rId2"/>
          <a:stretch/>
        </p:blipFill>
        <p:spPr>
          <a:xfrm>
            <a:off x="3000240" y="0"/>
            <a:ext cx="6172200" cy="4618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971800" y="457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vantGarde Md BT"/>
              </a:rPr>
              <a:t>MODALITA’ DI ACCE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984400" y="932040"/>
            <a:ext cx="6007320" cy="368280"/>
            <a:chOff x="2984400" y="932040"/>
            <a:chExt cx="6007320" cy="368280"/>
          </a:xfrm>
        </p:grpSpPr>
        <p:sp>
          <p:nvSpPr>
            <p:cNvPr id="143" name=""/>
            <p:cNvSpPr/>
            <p:nvPr/>
          </p:nvSpPr>
          <p:spPr>
            <a:xfrm flipH="1">
              <a:off x="2984400" y="933480"/>
              <a:ext cx="464832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43800" y="932040"/>
              <a:ext cx="1447920" cy="368280"/>
            </a:xfrm>
            <a:prstGeom prst="rect">
              <a:avLst/>
            </a:prstGeom>
            <a:solidFill>
              <a:srgbClr val="006699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vantGarde Md BT"/>
                </a:rPr>
                <a:t>S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0" y="1104840"/>
            <a:ext cx="9144000" cy="5791320"/>
            <a:chOff x="0" y="1104840"/>
            <a:chExt cx="9144000" cy="5791320"/>
          </a:xfrm>
        </p:grpSpPr>
        <p:sp>
          <p:nvSpPr>
            <p:cNvPr id="146" name=""/>
            <p:cNvSpPr/>
            <p:nvPr/>
          </p:nvSpPr>
          <p:spPr>
            <a:xfrm>
              <a:off x="2286000" y="4343400"/>
              <a:ext cx="2133720" cy="1219320"/>
            </a:xfrm>
            <a:prstGeom prst="flowChartDocumen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6591240"/>
              <a:ext cx="9144000" cy="30492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3520" y="1320840"/>
              <a:ext cx="6476760" cy="2666880"/>
            </a:xfrm>
            <a:prstGeom prst="flowChartDocumen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77120" y="4343400"/>
              <a:ext cx="2133360" cy="1219320"/>
            </a:xfrm>
            <a:prstGeom prst="flowChartDocumen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70240" y="4292640"/>
              <a:ext cx="194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AvantGarde Md BT"/>
                </a:rPr>
                <a:t>INFRASTRUTTURA WL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7800" y="1295280"/>
              <a:ext cx="204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vantGarde Md BT"/>
                </a:rPr>
                <a:t>INFRASTRUTTURA 2G / 3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2" name="schema4" descr=""/>
            <p:cNvPicPr/>
            <p:nvPr/>
          </p:nvPicPr>
          <p:blipFill>
            <a:blip r:embed="rId3"/>
            <a:stretch/>
          </p:blipFill>
          <p:spPr>
            <a:xfrm>
              <a:off x="876240" y="1104840"/>
              <a:ext cx="7810560" cy="52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1434960" y="5683320"/>
              <a:ext cx="12193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vantGarde Md BT"/>
                </a:rPr>
                <a:t>+39 33X. XX.XX.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0" y="5334120"/>
              <a:ext cx="6858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43200" y="5410080"/>
              <a:ext cx="2286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209680" y="4800600"/>
              <a:ext cx="15264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6" descr=""/>
          <p:cNvPicPr/>
          <p:nvPr/>
        </p:nvPicPr>
        <p:blipFill>
          <a:blip r:embed="rId2"/>
          <a:stretch/>
        </p:blipFill>
        <p:spPr>
          <a:xfrm>
            <a:off x="3000240" y="0"/>
            <a:ext cx="6172200" cy="4618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971800" y="457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vantGarde Md BT"/>
              </a:rPr>
              <a:t>MODALITA’ DI ACCE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984400" y="932040"/>
            <a:ext cx="6007320" cy="368280"/>
            <a:chOff x="2984400" y="932040"/>
            <a:chExt cx="6007320" cy="368280"/>
          </a:xfrm>
        </p:grpSpPr>
        <p:sp>
          <p:nvSpPr>
            <p:cNvPr id="160" name=""/>
            <p:cNvSpPr/>
            <p:nvPr/>
          </p:nvSpPr>
          <p:spPr>
            <a:xfrm flipH="1">
              <a:off x="2984400" y="933480"/>
              <a:ext cx="464832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43800" y="932040"/>
              <a:ext cx="1447920" cy="368280"/>
            </a:xfrm>
            <a:prstGeom prst="rect">
              <a:avLst/>
            </a:prstGeom>
            <a:solidFill>
              <a:srgbClr val="006699"/>
            </a:soli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vantGarde Md BT"/>
                </a:rPr>
                <a:t>SIM C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0" y="1266840"/>
            <a:ext cx="9144000" cy="5629320"/>
            <a:chOff x="0" y="1266840"/>
            <a:chExt cx="9144000" cy="5629320"/>
          </a:xfrm>
        </p:grpSpPr>
        <p:sp>
          <p:nvSpPr>
            <p:cNvPr id="163" name=""/>
            <p:cNvSpPr/>
            <p:nvPr/>
          </p:nvSpPr>
          <p:spPr>
            <a:xfrm>
              <a:off x="0" y="6591240"/>
              <a:ext cx="9144000" cy="30492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0" y="4724280"/>
              <a:ext cx="4114800" cy="1676520"/>
              <a:chOff x="0" y="4724280"/>
              <a:chExt cx="4114800" cy="1676520"/>
            </a:xfrm>
          </p:grpSpPr>
          <p:sp>
            <p:nvSpPr>
              <p:cNvPr id="165" name=""/>
              <p:cNvSpPr/>
              <p:nvPr/>
            </p:nvSpPr>
            <p:spPr>
              <a:xfrm>
                <a:off x="139680" y="5029200"/>
                <a:ext cx="3809880" cy="137160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50000">
                    <a:srgbClr val="ffffff"/>
                  </a:gs>
                  <a:gs pos="100000">
                    <a:srgbClr val="eaeaea"/>
                  </a:gs>
                </a:gsLst>
                <a:lin ang="10800000"/>
              </a:gra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4724280"/>
                <a:ext cx="4114800" cy="304920"/>
              </a:xfrm>
              <a:prstGeom prst="triangle">
                <a:avLst>
                  <a:gd name="adj" fmla="val 50000"/>
                </a:avLst>
              </a:prstGeom>
              <a:solidFill>
                <a:srgbClr val="eaeaea"/>
              </a:solid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67" name="" descr=""/>
            <p:cNvPicPr/>
            <p:nvPr/>
          </p:nvPicPr>
          <p:blipFill>
            <a:blip r:embed="rId3"/>
            <a:stretch/>
          </p:blipFill>
          <p:spPr>
            <a:xfrm>
              <a:off x="152280" y="1266840"/>
              <a:ext cx="8839440" cy="5133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6" descr=""/>
          <p:cNvPicPr/>
          <p:nvPr/>
        </p:nvPicPr>
        <p:blipFill>
          <a:blip r:embed="rId2"/>
          <a:stretch/>
        </p:blipFill>
        <p:spPr>
          <a:xfrm>
            <a:off x="3000240" y="0"/>
            <a:ext cx="6172200" cy="4618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851040" y="3027240"/>
            <a:ext cx="1330200" cy="13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&gt;&gt;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591240"/>
            <a:ext cx="9144000" cy="30492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2819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PROSPETTIVE DI INTEGRAZIONE CON IL MONDO MOB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6" descr=""/>
          <p:cNvPicPr/>
          <p:nvPr/>
        </p:nvPicPr>
        <p:blipFill>
          <a:blip r:embed="rId2"/>
          <a:stretch/>
        </p:blipFill>
        <p:spPr>
          <a:xfrm>
            <a:off x="3000240" y="0"/>
            <a:ext cx="6172200" cy="461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971800" y="457200"/>
            <a:ext cx="62485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99"/>
                </a:solidFill>
                <a:latin typeface="AvantGarde Md BT"/>
              </a:rPr>
              <a:t>PROSPETTIVE DI INTEGRAZIONE CON IL MONDO MOBI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6591240"/>
            <a:ext cx="9144000" cy="30492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1127160"/>
            <a:ext cx="8610480" cy="304920"/>
          </a:xfrm>
          <a:prstGeom prst="rightArrow">
            <a:avLst>
              <a:gd name="adj1" fmla="val 32287"/>
              <a:gd name="adj2" fmla="val 110862"/>
            </a:avLst>
          </a:prstGeom>
          <a:gradFill rotWithShape="0">
            <a:gsLst>
              <a:gs pos="0">
                <a:srgbClr val="006699"/>
              </a:gs>
              <a:gs pos="100000">
                <a:srgbClr val="f8f8f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1640" y="1127160"/>
            <a:ext cx="146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vantGarde Md BT"/>
              </a:rPr>
              <a:t>Evoluzione Fu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04920" y="1508040"/>
          <a:ext cx="8610480" cy="4740480"/>
        </p:xfrm>
        <a:graphic>
          <a:graphicData uri="http://schemas.openxmlformats.org/drawingml/2006/table">
            <a:tbl>
              <a:tblPr/>
              <a:tblGrid>
                <a:gridCol w="1722240"/>
                <a:gridCol w="1722600"/>
                <a:gridCol w="1720800"/>
                <a:gridCol w="1722240"/>
                <a:gridCol w="1722600"/>
              </a:tblGrid>
              <a:tr h="1006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00"/>
                          </a:solidFill>
                          <a:latin typeface="AvantGarde Md BT"/>
                        </a:rPr>
                        <a:t>OGGI</a:t>
                      </a:r>
                      <a:br>
                        <a:rPr sz="1200"/>
                      </a:b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vantGarde Md BT"/>
                        </a:rPr>
                        <a:t>Integrazione tra meccanismi di Accesso e Tariffa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00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vantGarde Md BT"/>
                        </a:rPr>
                        <a:t>Continuita’ dei servizi utente su Connettivita’ WL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00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vantGarde Md BT"/>
                        </a:rPr>
                        <a:t>Integrazione a livello di 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vantGarde Md BT"/>
                        </a:rPr>
                        <a:t>Device di accesso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00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vantGarde Md BT"/>
                        </a:rPr>
                        <a:t>Piena Continuita’ di Sessione , Servizi e interworking fra le Re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006699"/>
                        </a:gs>
                      </a:gsLst>
                      <a:lin ang="5400000"/>
                    </a:gradFill>
                  </a:tcPr>
                </a:tc>
              </a:tr>
              <a:tr h="727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vantGarde Md BT"/>
                        </a:rPr>
                        <a:t>Sistema di Autentica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00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vantGarde Md BT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dd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69696"/>
                          </a:solidFill>
                          <a:latin typeface="AvantGarde Md BT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aeae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69696"/>
                          </a:solidFill>
                          <a:latin typeface="AvantGarde Md BT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aeae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69696"/>
                          </a:solidFill>
                          <a:latin typeface="AvantGarde Md BT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aeaea"/>
                        </a:gs>
                      </a:gsLst>
                      <a:lin ang="5400000"/>
                    </a:gradFill>
                  </a:tcPr>
                </a:tc>
              </a:tr>
              <a:tr h="727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vantGarde Md BT"/>
                        </a:rPr>
                        <a:t>Sistema di Tariffa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00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vantGarde Md BT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9dd7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69696"/>
                          </a:solidFill>
                          <a:latin typeface="AvantGarde Md BT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69696"/>
                          </a:solidFill>
                          <a:latin typeface="AvantGarde Md BT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69696"/>
                          </a:solidFill>
                          <a:latin typeface="AvantGarde Md BT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vantGarde Md BT"/>
                        </a:rPr>
                        <a:t>Continuita’ dei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vantGarde Md BT"/>
                        </a:rPr>
                        <a:t>Servizi Ut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00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aeae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69696"/>
                          </a:solidFill>
                          <a:latin typeface="AvantGarde Md BT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aeae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69696"/>
                          </a:solidFill>
                          <a:latin typeface="AvantGarde Md BT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aeae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69696"/>
                          </a:solidFill>
                          <a:latin typeface="AvantGarde Md BT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aeaea"/>
                        </a:gs>
                      </a:gsLst>
                      <a:lin ang="5400000"/>
                    </a:gradFill>
                  </a:tcPr>
                </a:tc>
              </a:tr>
              <a:tr h="727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vantGarde Md BT"/>
                        </a:rPr>
                        <a:t>Seamless Handover e Continuita’ di Serviz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00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69696"/>
                          </a:solidFill>
                          <a:latin typeface="AvantGarde Md BT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69696"/>
                          </a:solidFill>
                          <a:latin typeface="AvantGarde Md BT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vantGarde Md BT"/>
                        </a:rPr>
                        <a:t>Continuita’ di Servizio e Interworking completo tra WLAN e Reti 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00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aeae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aeae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aeae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69696"/>
                          </a:solidFill>
                          <a:latin typeface="AvantGarde Md BT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aeaea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851040" y="3027240"/>
            <a:ext cx="1330200" cy="13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&gt;&gt;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79" name="end" descr=""/>
          <p:cNvPicPr/>
          <p:nvPr/>
        </p:nvPicPr>
        <p:blipFill>
          <a:blip r:embed="rId1"/>
          <a:stretch/>
        </p:blipFill>
        <p:spPr>
          <a:xfrm>
            <a:off x="0" y="2895480"/>
            <a:ext cx="9144000" cy="984240"/>
          </a:xfrm>
          <a:prstGeom prst="rect">
            <a:avLst/>
          </a:prstGeom>
          <a:ln w="0">
            <a:noFill/>
          </a:ln>
        </p:spPr>
      </p:pic>
      <p:pic>
        <p:nvPicPr>
          <p:cNvPr id="180" name="web" descr=""/>
          <p:cNvPicPr/>
          <p:nvPr/>
        </p:nvPicPr>
        <p:blipFill>
          <a:blip r:embed="rId2"/>
          <a:stretch/>
        </p:blipFill>
        <p:spPr>
          <a:xfrm>
            <a:off x="3446640" y="3921120"/>
            <a:ext cx="2250720" cy="6508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371600" y="533520"/>
            <a:ext cx="64008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vantGarde Md BT"/>
              </a:rPr>
              <a:t>Alfredo Impar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vantGarde Md BT"/>
              </a:rPr>
              <a:t>imparato.a@megabeam.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vantGarde Md BT"/>
              </a:rPr>
              <a:t>06 52 62 04 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6" descr=""/>
          <p:cNvPicPr/>
          <p:nvPr/>
        </p:nvPicPr>
        <p:blipFill>
          <a:blip r:embed="rId2"/>
          <a:stretch/>
        </p:blipFill>
        <p:spPr>
          <a:xfrm>
            <a:off x="3000240" y="0"/>
            <a:ext cx="6172200" cy="461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971800" y="457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vantGarde Md BT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51040" y="2286000"/>
            <a:ext cx="1968480" cy="190512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244520" y="2570040"/>
            <a:ext cx="1330560" cy="13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&gt;&gt;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3022560" y="1523880"/>
            <a:ext cx="6019920" cy="3020040"/>
          </a:xfrm>
          <a:prstGeom prst="rect">
            <a:avLst/>
          </a:prstGeom>
          <a:solidFill>
            <a:srgbClr val="f8f8f8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99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Megabeam Ita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L’ Architettura di rifer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Modalità di accesso al serviz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Prospettive di integrazione con il mondo Mob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img2" descr=""/>
          <p:cNvPicPr/>
          <p:nvPr/>
        </p:nvPicPr>
        <p:blipFill>
          <a:blip r:embed="rId7"/>
          <a:stretch/>
        </p:blipFill>
        <p:spPr>
          <a:xfrm>
            <a:off x="6172200" y="4419720"/>
            <a:ext cx="2781360" cy="1608120"/>
          </a:xfrm>
          <a:prstGeom prst="rect">
            <a:avLst/>
          </a:prstGeom>
          <a:ln w="0">
            <a:noFill/>
          </a:ln>
        </p:spPr>
      </p:pic>
      <p:pic>
        <p:nvPicPr>
          <p:cNvPr id="57" name="img_sx_020" descr=""/>
          <p:cNvPicPr/>
          <p:nvPr/>
        </p:nvPicPr>
        <p:blipFill>
          <a:blip r:embed="rId8"/>
          <a:stretch/>
        </p:blipFill>
        <p:spPr>
          <a:xfrm>
            <a:off x="76320" y="533520"/>
            <a:ext cx="1676160" cy="1447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6591240"/>
            <a:ext cx="9144000" cy="30492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6" descr=""/>
          <p:cNvPicPr/>
          <p:nvPr/>
        </p:nvPicPr>
        <p:blipFill>
          <a:blip r:embed="rId2"/>
          <a:stretch/>
        </p:blipFill>
        <p:spPr>
          <a:xfrm>
            <a:off x="3000240" y="0"/>
            <a:ext cx="6172200" cy="461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851040" y="3027240"/>
            <a:ext cx="1330200" cy="13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&gt;&gt;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591240"/>
            <a:ext cx="9144000" cy="30492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31687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L’ AZI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6" descr=""/>
          <p:cNvPicPr/>
          <p:nvPr/>
        </p:nvPicPr>
        <p:blipFill>
          <a:blip r:embed="rId2"/>
          <a:stretch/>
        </p:blipFill>
        <p:spPr>
          <a:xfrm>
            <a:off x="3000240" y="0"/>
            <a:ext cx="6172200" cy="461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971800" y="457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vantGarde Md BT"/>
              </a:rPr>
              <a:t>L’ AZI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447920"/>
            <a:ext cx="8001000" cy="3751560"/>
          </a:xfrm>
          <a:prstGeom prst="rect">
            <a:avLst/>
          </a:prstGeom>
          <a:solidFill>
            <a:srgbClr val="f8f8f8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Verdana"/>
              </a:rPr>
              <a:t>La Megabeam Italia S.p.A. è stata costituita nel maggio 2001 e segue la costituzione di Megabeam Networks Limited, nata in Gran Bretagna a fine 1999, da un'idea di alcuni managers di aziende del settore IT .</a:t>
            </a:r>
            <a:r>
              <a:rPr b="0" lang="it-IT" sz="2000" spc="-1" strike="noStrike">
                <a:solidFill>
                  <a:srgbClr val="0066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Verdana"/>
              </a:rPr>
              <a:t>La compagine societaria di Megabeam è composta dal fondo di Venture Capital Angel Ventures (azionista di riferimento), dal fondo 2G Investimenti Spa e da un aserie di investitori priva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591240"/>
            <a:ext cx="9144000" cy="30492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6" descr=""/>
          <p:cNvPicPr/>
          <p:nvPr/>
        </p:nvPicPr>
        <p:blipFill>
          <a:blip r:embed="rId2"/>
          <a:stretch/>
        </p:blipFill>
        <p:spPr>
          <a:xfrm>
            <a:off x="3000240" y="0"/>
            <a:ext cx="6172200" cy="461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971800" y="457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vantGarde Md BT"/>
              </a:rPr>
              <a:t>L’ AZI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1870200"/>
            <a:ext cx="8534160" cy="3324960"/>
          </a:xfrm>
          <a:prstGeom prst="rect">
            <a:avLst/>
          </a:prstGeom>
          <a:solidFill>
            <a:srgbClr val="f8f8f8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Verdana"/>
              </a:rPr>
              <a:t>Megabeam permette di collegare PC portatili o palmari ad internet ed alle LAN aziendali, in modalità wireless (senza fili), utilizzando la tecnologia 802.11b (comunemente detta Wi-Fi)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Verdana"/>
              </a:rPr>
              <a:t>La velocità di trasmissione può arrivare fino a 11 Mb per secondo, decine di volte superiore alla connessione con modem tradizionale (56 Kb per second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6591240"/>
            <a:ext cx="9144000" cy="30492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6" descr=""/>
          <p:cNvPicPr/>
          <p:nvPr/>
        </p:nvPicPr>
        <p:blipFill>
          <a:blip r:embed="rId2"/>
          <a:stretch/>
        </p:blipFill>
        <p:spPr>
          <a:xfrm>
            <a:off x="3000240" y="0"/>
            <a:ext cx="6172200" cy="461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971800" y="457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vantGarde Md BT"/>
              </a:rPr>
              <a:t>L’ AZI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14800" y="990720"/>
            <a:ext cx="4876920" cy="5214600"/>
          </a:xfrm>
          <a:prstGeom prst="rect">
            <a:avLst/>
          </a:prstGeom>
          <a:solidFill>
            <a:srgbClr val="f8f8f8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Verdana"/>
              </a:rPr>
              <a:t>Il nostro obiettivo è essere presenti nei luoghi di transito o permanenza di un viaggio di lavoro: aeroporti, hotel, centri congress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Verdana"/>
              </a:rPr>
              <a:t>Le partnership con i principali aeroporti italiani ci permettono di coprire oltre il 75% del traffico business nazionale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99"/>
                </a:solidFill>
                <a:latin typeface="Verdana"/>
              </a:rPr>
              <a:t>Megabeam risulta inoltre presente anche in alberghi con clientela business, come i nostri attuali partner: Starhotels (19 alberghi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591240"/>
            <a:ext cx="9144000" cy="30492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img2" descr=""/>
          <p:cNvPicPr/>
          <p:nvPr/>
        </p:nvPicPr>
        <p:blipFill>
          <a:blip r:embed="rId3"/>
          <a:stretch/>
        </p:blipFill>
        <p:spPr>
          <a:xfrm>
            <a:off x="152280" y="4064040"/>
            <a:ext cx="3657600" cy="2114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6" descr=""/>
          <p:cNvPicPr/>
          <p:nvPr/>
        </p:nvPicPr>
        <p:blipFill>
          <a:blip r:embed="rId2"/>
          <a:stretch/>
        </p:blipFill>
        <p:spPr>
          <a:xfrm>
            <a:off x="3000240" y="0"/>
            <a:ext cx="6172200" cy="4618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971800" y="457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vantGarde Md BT"/>
              </a:rPr>
              <a:t>L’ AZI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6591240"/>
            <a:ext cx="9144000" cy="30492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img2" descr=""/>
          <p:cNvPicPr/>
          <p:nvPr/>
        </p:nvPicPr>
        <p:blipFill>
          <a:blip r:embed="rId3"/>
          <a:stretch/>
        </p:blipFill>
        <p:spPr>
          <a:xfrm>
            <a:off x="152280" y="4064040"/>
            <a:ext cx="3657600" cy="2114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33520" y="3124080"/>
            <a:ext cx="3581280" cy="52056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vantGarde Md BT"/>
              </a:rPr>
              <a:t>LOCATION AT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1193760"/>
            <a:ext cx="4876920" cy="4909320"/>
          </a:xfrm>
          <a:prstGeom prst="rect">
            <a:avLst/>
          </a:prstGeom>
          <a:solidFill>
            <a:srgbClr val="f8f8f8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6699"/>
                </a:solidFill>
                <a:latin typeface="Verdana"/>
              </a:rPr>
              <a:t>Ro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6699"/>
                </a:solidFill>
                <a:latin typeface="Verdana"/>
              </a:rPr>
              <a:t>1 Aeroporto-3 Ho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6699"/>
                </a:solidFill>
                <a:latin typeface="Verdana"/>
              </a:rPr>
              <a:t>Milan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6699"/>
                </a:solidFill>
                <a:latin typeface="Verdana"/>
              </a:rPr>
              <a:t>2 Aeroporti-4 Ho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6699"/>
                </a:solidFill>
                <a:latin typeface="Verdana"/>
              </a:rPr>
              <a:t>Venez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6699"/>
                </a:solidFill>
                <a:latin typeface="Verdana"/>
              </a:rPr>
              <a:t>1 Aeroporto-1 Ho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6699"/>
                </a:solidFill>
                <a:latin typeface="Verdana"/>
              </a:rPr>
              <a:t>Ve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6699"/>
                </a:solidFill>
                <a:latin typeface="Verdana"/>
              </a:rPr>
              <a:t>1 Aeropor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6699"/>
                </a:solidFill>
                <a:latin typeface="Verdana"/>
              </a:rPr>
              <a:t>Geno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6699"/>
                </a:solidFill>
                <a:latin typeface="Verdana"/>
              </a:rPr>
              <a:t>1 Aeroporto-1 Ho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6699"/>
                </a:solidFill>
                <a:latin typeface="Verdana"/>
              </a:rPr>
              <a:t>Tor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6699"/>
                </a:solidFill>
                <a:latin typeface="Verdana"/>
              </a:rPr>
              <a:t>1 Ho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6699"/>
                </a:solidFill>
                <a:latin typeface="Verdana"/>
              </a:rPr>
              <a:t>Tri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6699"/>
                </a:solidFill>
                <a:latin typeface="Verdana"/>
              </a:rPr>
              <a:t>1 Ho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6699"/>
                </a:solidFill>
                <a:latin typeface="Verdana"/>
              </a:rPr>
              <a:t>Pa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6699"/>
                </a:solidFill>
                <a:latin typeface="Verdana"/>
              </a:rPr>
              <a:t>1 Ho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6699"/>
                </a:solidFill>
                <a:latin typeface="Verdana"/>
              </a:rPr>
              <a:t>Bolog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6699"/>
                </a:solidFill>
                <a:latin typeface="Verdana"/>
              </a:rPr>
              <a:t>1 Ho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6699"/>
                </a:solidFill>
                <a:latin typeface="Verdana"/>
              </a:rPr>
              <a:t>Napo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6699"/>
                </a:solidFill>
                <a:latin typeface="Verdana"/>
              </a:rPr>
              <a:t>1 Ho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6699"/>
                </a:solidFill>
                <a:latin typeface="Verdana"/>
              </a:rPr>
              <a:t>Val d’Ao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6699"/>
                </a:solidFill>
                <a:latin typeface="Verdana"/>
              </a:rPr>
              <a:t>Progetto VINCES-12 Hotsp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001" descr=""/>
          <p:cNvPicPr/>
          <p:nvPr/>
        </p:nvPicPr>
        <p:blipFill>
          <a:blip r:embed="rId4"/>
          <a:stretch/>
        </p:blipFill>
        <p:spPr>
          <a:xfrm>
            <a:off x="7315200" y="2286000"/>
            <a:ext cx="1508040" cy="3108240"/>
          </a:xfrm>
          <a:prstGeom prst="rect">
            <a:avLst/>
          </a:prstGeom>
          <a:ln w="0">
            <a:noFill/>
          </a:ln>
        </p:spPr>
      </p:pic>
      <p:pic>
        <p:nvPicPr>
          <p:cNvPr id="83" name="002" descr=""/>
          <p:cNvPicPr/>
          <p:nvPr/>
        </p:nvPicPr>
        <p:blipFill>
          <a:blip r:embed="rId5"/>
          <a:stretch/>
        </p:blipFill>
        <p:spPr>
          <a:xfrm>
            <a:off x="7416720" y="1270080"/>
            <a:ext cx="1508040" cy="1143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6" descr=""/>
          <p:cNvPicPr/>
          <p:nvPr/>
        </p:nvPicPr>
        <p:blipFill>
          <a:blip r:embed="rId2"/>
          <a:stretch/>
        </p:blipFill>
        <p:spPr>
          <a:xfrm>
            <a:off x="3000240" y="0"/>
            <a:ext cx="6172200" cy="461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851040" y="3027240"/>
            <a:ext cx="1330200" cy="13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&gt;&gt;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591240"/>
            <a:ext cx="9144000" cy="30492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31687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L’ ARCHITETTU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6" descr=""/>
          <p:cNvPicPr/>
          <p:nvPr/>
        </p:nvPicPr>
        <p:blipFill>
          <a:blip r:embed="rId2"/>
          <a:stretch/>
        </p:blipFill>
        <p:spPr>
          <a:xfrm>
            <a:off x="3000240" y="0"/>
            <a:ext cx="6172200" cy="461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971800" y="457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vantGarde Md BT"/>
              </a:rPr>
              <a:t>L’ARCHITET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591240"/>
            <a:ext cx="9144000" cy="30492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596880" y="1206360"/>
            <a:ext cx="7709040" cy="5136120"/>
            <a:chOff x="596880" y="1206360"/>
            <a:chExt cx="7709040" cy="5136120"/>
          </a:xfrm>
        </p:grpSpPr>
        <p:grpSp>
          <p:nvGrpSpPr>
            <p:cNvPr id="92" name=""/>
            <p:cNvGrpSpPr/>
            <p:nvPr/>
          </p:nvGrpSpPr>
          <p:grpSpPr>
            <a:xfrm>
              <a:off x="596880" y="1206360"/>
              <a:ext cx="7709040" cy="5118120"/>
              <a:chOff x="596880" y="1206360"/>
              <a:chExt cx="7709040" cy="5118120"/>
            </a:xfrm>
          </p:grpSpPr>
          <p:sp>
            <p:nvSpPr>
              <p:cNvPr id="93" name=""/>
              <p:cNvSpPr/>
              <p:nvPr/>
            </p:nvSpPr>
            <p:spPr>
              <a:xfrm flipH="1" flipV="1">
                <a:off x="3657600" y="1447920"/>
                <a:ext cx="4648320" cy="4876560"/>
              </a:xfrm>
              <a:prstGeom prst="flowChartDocument">
                <a:avLst/>
              </a:prstGeom>
              <a:gradFill rotWithShape="0">
                <a:gsLst>
                  <a:gs pos="0">
                    <a:srgbClr val="dddddd"/>
                  </a:gs>
                  <a:gs pos="50000">
                    <a:srgbClr val="ffffff"/>
                  </a:gs>
                  <a:gs pos="100000">
                    <a:srgbClr val="dddddd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" name=""/>
              <p:cNvGrpSpPr/>
              <p:nvPr/>
            </p:nvGrpSpPr>
            <p:grpSpPr>
              <a:xfrm>
                <a:off x="596880" y="1206360"/>
                <a:ext cx="2438280" cy="1676160"/>
                <a:chOff x="596880" y="1206360"/>
                <a:chExt cx="2438280" cy="167616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825480" y="1510920"/>
                  <a:ext cx="1981080" cy="1371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eaeaea"/>
                    </a:gs>
                    <a:gs pos="50000">
                      <a:srgbClr val="ffffff"/>
                    </a:gs>
                    <a:gs pos="100000">
                      <a:srgbClr val="eaeaea"/>
                    </a:gs>
                  </a:gsLst>
                  <a:lin ang="10800000"/>
                </a:gradFill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596880" y="1206360"/>
                  <a:ext cx="2438280" cy="3045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eaeaea"/>
                </a:solidFill>
                <a:ln w="936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97" name="schema1" descr=""/>
              <p:cNvPicPr/>
              <p:nvPr/>
            </p:nvPicPr>
            <p:blipFill>
              <a:blip r:embed="rId3"/>
              <a:stretch/>
            </p:blipFill>
            <p:spPr>
              <a:xfrm>
                <a:off x="1066680" y="1371600"/>
                <a:ext cx="7189920" cy="457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825480" y="3352680"/>
                <a:ext cx="2819520" cy="2895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5288400" y="5943600"/>
              <a:ext cx="134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vantGarde Md BT"/>
                </a:rPr>
                <a:t>HOTSP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09:27:42Z</dcterms:created>
  <dc:creator>Claudio Costantini</dc:creator>
  <dc:description/>
  <dc:language>en-US</dc:language>
  <cp:lastModifiedBy>lauree</cp:lastModifiedBy>
  <dcterms:modified xsi:type="dcterms:W3CDTF">2003-11-22T13:26:56Z</dcterms:modified>
  <cp:revision>84</cp:revision>
  <dc:subject/>
  <dc:title>Presentazione di PowerPoint</dc:title>
</cp:coreProperties>
</file>